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126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C911-967D-4CBB-ACB6-7F7C5699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1A8-E939-4E9B-A99A-B04C89B6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CAE-902B-4AE9-9B80-46B7B591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98E-75A4-4FF4-93BF-BAA04A58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FEB1-C017-460D-B6CA-E198FFBA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12D3-6C33-4F93-906D-30B67011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3453-0A30-4226-BC3E-D194169A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A76A-270D-4EE7-92A1-E53F796F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E6CF-88D1-42B0-82D8-82652EF9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8079-816E-45D7-95B2-8370C57F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09BA-6768-4933-B43E-29486CEB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D32-AA88-428E-AD56-DC9F4D41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A07A-2802-4CBC-A757-DC29BAE0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4E61-52CA-43F8-9FC7-7379CCA1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61A9-2968-4380-A1AD-23D4BD47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02CA-D7E0-4817-8D1B-CA993F535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1EED-CDB5-426F-8727-9102361C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5A0A9-A1AA-4F78-8AEF-00ACBE00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414D1-567E-42A3-BB9F-7221E483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68204-1E8A-430C-96D6-5128D02A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56D1AD-FA9D-4B83-98DB-9D884DC6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50883-0B23-41B1-BFC0-1BADBCB2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720-7563-421C-B522-9745D5CA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C3FFC-B863-4CA7-A266-7DA2CEFC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2AAD5-B219-4281-A231-CDEDA7CA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CFB4FA-E030-4A12-AEF4-54AE5BE0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E4559-E94D-483A-8ACA-F953E168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44CDE-612B-4D9C-8002-77D48848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6C2C3-4735-4FC2-B173-E8BA11FB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B403C-485F-4E16-9712-C391EC5D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27716-1F4D-4CE3-A266-E4EAE0FD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CC66B-E9BC-4B1D-8C4F-C2EB5F63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B5EF5-8B06-4E3F-9474-7940B5C9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BAC-16AF-41C6-83F5-CFD8FCDF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D689E-3EFD-40AB-B799-6E809172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8F894-558E-49CA-BD5D-A0685585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AB0C-A6D3-42B8-91E4-B8B2733C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C11B-6D3C-44D8-A603-8448E343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3E922-2B56-44E1-AE77-2F49DEDA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5E3B3-F98F-4161-9856-AF12F02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9920F-EEBC-410E-8108-A71F6340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E0454-AE01-4CE7-AF01-EB2B5E4B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0408E-F2A2-4C4D-91E2-320DD0C1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35C0B-11DC-4B56-A03A-60F33894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D9B-FFB7-4453-B611-3A1926D4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704BE-4793-47C5-8DD6-31900FD2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D37CC-1C9C-46A1-9CFE-0C107458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0C07-1570-4310-B8E2-82A1F5E1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9A7C9-F051-46D7-A587-378CE2D5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1AF2F-3E3B-4721-A03B-95060FF9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8D4A-91E5-4E06-A509-78428870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39A91-7491-41D7-B82C-4D7837A8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B788A-663C-4E7C-B1E6-60CF20A6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C7B1-514E-4E27-94A7-40511B93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B7FBE-0DC0-4920-AEF6-8438AEF9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DA56-F3F8-4E89-BBD5-2C7BEBBE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E8CB6-6046-42AA-8032-894AE9B1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6B4-DAA6-469C-B449-8DFA8CB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99A-5A95-4FED-81B1-4B4E2D89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43A-261A-4CDE-A471-A28722E5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DEA7-48F3-4A68-A7A5-6CE3A08F74FA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F1E4-FA3D-4E40-B7C4-62E5A49EB7D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81F5-CA9F-4EB8-B9A2-5D9900186402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88C2-7793-4E53-8F77-5F164E09B491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4A06-DF07-481F-9B09-8190BCC0AEFC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D2EA-C927-47D0-A382-A44315C58F6F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2C2B-3D26-4FA8-A10C-92F46FC4292C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DDAE-24E0-4779-8310-EC6CD3FC5EE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3627-89F4-4E7A-B755-115CBA92DB61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01FC-5926-4ED2-8061-8A972898283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171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ЛЕС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РОЦЕНТИ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(%)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ЛЕС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АС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358920" y="1881360"/>
          <a:ext cx="8424720" cy="4532040"/>
        </p:xfrm>
        <a:graphic>
          <a:graphicData uri="http://schemas.openxmlformats.org/drawingml/2006/table">
            <a:tbl>
              <a:tblPr/>
              <a:tblGrid>
                <a:gridCol w="1908000"/>
                <a:gridCol w="2197080"/>
                <a:gridCol w="2051280"/>
                <a:gridCol w="226836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зра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купна вод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ћелијс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кстраћелијска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-1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-3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с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-12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мес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-10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6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од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533520" y="2351160"/>
            <a:ext cx="8076960" cy="35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SPIRATIO INSENSIBILIS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45%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КОЖ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3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ЛУЋ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1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УРЕ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            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ТОЛИЦ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                 5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1447920" y="1087560"/>
            <a:ext cx="621828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ФИЗИОЛОШ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11280" y="1027080"/>
            <a:ext cx="7456320" cy="96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br>
              <a:rPr sz="3200"/>
            </a:b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принципи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терапије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647640" y="2168640"/>
          <a:ext cx="7848720" cy="4047840"/>
        </p:xfrm>
        <a:graphic>
          <a:graphicData uri="http://schemas.openxmlformats.org/drawingml/2006/table">
            <a:tbl>
              <a:tblPr/>
              <a:tblGrid>
                <a:gridCol w="1733760"/>
                <a:gridCol w="2190600"/>
                <a:gridCol w="392436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ачунање дефицита воде и 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ечности у дехидр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%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хидрациј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изовати ИВ волу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8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0 mL/kg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Р за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0 min, </a:t>
                      </a: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нављати до нормализације волу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воде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x 30 mmol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рачунати потребну воду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4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невне потребе + дефицит во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рачунати електролите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4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невне потребе + дефицит </a:t>
                      </a:r>
                      <a:r>
                        <a:rPr b="0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i 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11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ловину дати у првих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h (-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уси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, 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татак за </a:t>
                      </a:r>
                      <a:r>
                        <a:rPr b="1" lang="sr-Latn-C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6h, </a:t>
                      </a:r>
                      <a:r>
                        <a:rPr b="1" lang="sr-RS" sz="16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ве губитке надокнадити кад се ја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18920" y="102672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4360" y="1952640"/>
            <a:ext cx="7812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Еу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лаг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токсик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онич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греш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МФ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декват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фицијен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тироидиз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АД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оло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росемид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65280" y="1026720"/>
            <a:ext cx="785016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оремећај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хомеостазе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кал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956360" cy="44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јобилни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целула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тјон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98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лаз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целуларно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ацелулар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3.5-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нос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стрибу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међ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ељак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кскре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снов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функ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азли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међ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ај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одређ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ирују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тенција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мбран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утич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ћелиј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а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еоб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интез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Н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роте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ензим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ктив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егул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запрем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ћелијс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..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5528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91640" y="1988640"/>
            <a:ext cx="75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зитив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ла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е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мат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и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ет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преуз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ши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т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ритроц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та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-8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међ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ђ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мп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ицај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техола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л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рокс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кортикои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жб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.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685800" y="1981080"/>
          <a:ext cx="7772400" cy="2125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купног 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целулар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сти и везивно тки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нсцелуларни и интерстициј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з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45680" y="799920"/>
            <a:ext cx="81788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Регула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оворођенче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роме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бубрегу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око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азревањ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18920" y="1988640"/>
            <a:ext cx="759780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анспорт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ј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ту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ворођенча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ире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јчин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ле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5-0.6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гзоге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птере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ијум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сти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вазилаз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његов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лт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крец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е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зи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647640" y="836640"/>
            <a:ext cx="78120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рет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аст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ЕНЛЕО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ТЉ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нат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паците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ап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5%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ТИК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ОМ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ТПа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ео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тив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ув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к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ије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већав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имулис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ок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убулс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бир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нал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латив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зистент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ред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асл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99640" y="907920"/>
            <a:ext cx="741708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линичк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оцен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излучивањ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еко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бубрег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91640" y="2096640"/>
            <a:ext cx="7775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ракци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кре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Latn-RS" sz="2200" spc="-1" strike="noStrike">
                <a:solidFill>
                  <a:srgbClr val="3e3d2d"/>
                </a:solidFill>
                <a:latin typeface="Century Gothic"/>
              </a:rPr>
              <a:t>FE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лтрира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е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раж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цент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{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/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}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100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0%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пољашњ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7%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могр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ж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нстубул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с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радијен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T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/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x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8-9; &gt;11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птерећен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&lt;5-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аз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3" name="Text Box 4"/>
          <p:cNvSpPr/>
          <p:nvPr/>
        </p:nvSpPr>
        <p:spPr>
          <a:xfrm>
            <a:off x="108000" y="6308640"/>
            <a:ext cx="8964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ТТ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важи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кад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осмолалност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урин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већа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од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плазмине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[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]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урину</a:t>
            </a:r>
            <a:r>
              <a:rPr b="0" lang="sr-Latn-CS" sz="1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&gt;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82760" y="609480"/>
            <a:ext cx="82152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оремећај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ромета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плазм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калемија испод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 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калемија изнад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 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ГИТ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уфицијенција бубре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и гастроентероколити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уфицијенција надбубре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Ацидобазни поремећај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алдостерониза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етаболичка или респираторна алкало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лован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Ренални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сеуд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ремећај транспорта у тубулим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хемоли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Ендокрини узро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ков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(Aldakto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алдостерониза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цидоза (метаб. или респир.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Леков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Lasiks, Insulin, Ventolin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трогени узроц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окалем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19280" y="1807920"/>
            <a:ext cx="7813440" cy="10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ва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сп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3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азу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доста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0-40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упн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рганизм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рас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!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калем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863640" y="2816280"/>
          <a:ext cx="7669080" cy="3600360"/>
        </p:xfrm>
        <a:graphic>
          <a:graphicData uri="http://schemas.openxmlformats.org/drawingml/2006/table">
            <a:tbl>
              <a:tblPr/>
              <a:tblGrid>
                <a:gridCol w="1765440"/>
                <a:gridCol w="5903640"/>
              </a:tblGrid>
              <a:tr h="58500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manjen u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Ishrana bogata ugljenim hidratima i tečnim proteinima, parenteralni unos teč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36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Redistribuc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Lažna hipokalemija, aktivacija simpatikusa, insulin, povećana proizvodnja eritrocita, hipokalemijska periodična paraliza, inhibicija pasivnog izlaska K (trovanje barijumom), hipoter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18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I gub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ubitak GI sekreta iz bolo kog razlo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93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Gubici urin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Diuretici, poliurija, metabolička alkaloza i acidoza, hiperaldosteronizam, amfotericin B, Barterov sy,  Gitelmanov sy, Lidlov sy, deficit hl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reko zno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Intenzivno vežbanje, cistična fibro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840"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Dijali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Metabolička acidoza istiskuje K iz ćel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647640" y="1295280"/>
            <a:ext cx="7812000" cy="49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ФИЗИОЛОШ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ТАК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ДОЈЧЕТ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ВА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ГУБ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91640" y="764640"/>
            <a:ext cx="70246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Симптоми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26920" y="1591920"/>
            <a:ext cx="766944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лпит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рче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ши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али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есте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учн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кт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дипс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сих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лир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алуцин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прес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соб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о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изводњ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Х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исели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јача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абсорп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ксимал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убули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азив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калемиј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фропати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1892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848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рина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го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ри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5-1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већ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вред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мање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уби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иж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арт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ећ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јабет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етоацид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роксим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Р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ип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II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Метаболич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алкал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ећа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злучи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и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нормал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→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Бартеро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Гителмано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  <a:ea typeface="Arial"/>
              </a:rPr>
              <a:t>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42600" y="944640"/>
            <a:ext cx="702468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19280" y="1952280"/>
            <a:ext cx="7705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ткр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пас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иво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цијент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вет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имптоматс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3.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имптоматс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тензијом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р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хр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ашко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1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-1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1-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-4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бин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ко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н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те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4000" y="102672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9280" y="2096640"/>
            <a:ext cx="77054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арентерал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гућ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нтерал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ад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сто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анифест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&gt;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обичај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20-4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 KCL/L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3-4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kg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јвећ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4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аствора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1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L 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7.4%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K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1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o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0.5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kg/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!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Прат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на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убрежн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функци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Имати</a:t>
            </a:r>
            <a:r>
              <a:rPr b="0" lang="sr-Latn-CS" sz="21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1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100" spc="-1" strike="noStrike" u="sng">
                <a:solidFill>
                  <a:srgbClr val="3e3d2d"/>
                </a:solidFill>
                <a:uFillTx/>
                <a:latin typeface="Century Gothic"/>
              </a:rPr>
              <a:t>вид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дистрибуци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атећ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63280" y="90756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9280" y="1968480"/>
            <a:ext cx="7905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ч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од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лаз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о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га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гоб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л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ск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тк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ол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че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ш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од.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сн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аћ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ж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ран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фебрил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сморфиз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80/5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H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2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е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колениц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в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.5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9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рв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оте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.005, 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/Cr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0.01 (0.1-0.28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а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87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89" dur="1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701280" y="1055520"/>
            <a:ext cx="76503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дипс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магнези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ц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аз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ителмано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ндр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троинтестин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горш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ем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магнези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калциу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в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артеров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ндр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а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ављањ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гноз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94c600"/>
                </a:solidFill>
                <a:latin typeface="Century Gothic"/>
              </a:rPr>
              <a:t>Хиперкалемија</a:t>
            </a:r>
            <a:r>
              <a:rPr b="0" lang="sr-Latn-C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042920" y="1968480"/>
            <a:ext cx="750888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узет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реч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спитализова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цијен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епе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во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калијумск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адаптациј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лимин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анбубреж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ултифакториј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тиолог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чешћ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к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8920" y="873000"/>
            <a:ext cx="7024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оследице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64920" y="1530000"/>
            <a:ext cx="799596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ксцитаби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к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ровође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со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краћ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дуж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i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ста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ши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ипич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ли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ор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брил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ст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прино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во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руг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т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зличит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рали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њ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мите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ф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illain-Baré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y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соб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и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исел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38360" y="2312640"/>
            <a:ext cx="7850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7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кок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ит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д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ољењ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н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Т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ст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н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лекти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ек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кре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7280" y="872640"/>
            <a:ext cx="702468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зроц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r>
              <a:rPr b="0" lang="sr-Latn-C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614520" y="1981080"/>
          <a:ext cx="7918200" cy="4389480"/>
        </p:xfrm>
        <a:graphic>
          <a:graphicData uri="http://schemas.openxmlformats.org/drawingml/2006/table">
            <a:tbl>
              <a:tblPr/>
              <a:tblGrid>
                <a:gridCol w="2552400"/>
                <a:gridCol w="53658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Redistribucija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seudohiperkalemija (artefakt), nekroza tkiva, sindrom lize tumora, hipertonicitet seruma, trovanje bufadienolidom, fluor, sukcinil-ho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ovećan unos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Transfuzije krvi, KCl za per os, sportska pića, preparati alternativne medicine, p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manjeno izlučivanje K preko bubre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esteroidni antiinflamatorni lekovi, ACE inhibitori, diuretici koji štede kalijum, trimetoprim i pentamidin (slični amiloridu), heparin (smanjuje sintezu aldosterona), inhibitori kalcineurina (takrolimus; ciklosporin A smanjuje sekreciju aldosterona i osetljivost na aldosteron), KAH, pseudohipoaldosteronizam tip I i II, hipoaldosteronizam, distalna RTA, hiporeninemijski hipoaldosteronizam, prematurit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ОСМОЛАЛНОС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ИЦ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sr-RS" sz="26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1637280" y="2308320"/>
            <a:ext cx="6630120" cy="350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СМО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ЕФЕК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УПСТАНЦ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РАСТВОР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ВИС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АМ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РОЈ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РАСТВОРЕНИХ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ЧЕСТИ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o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рој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олекул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01280" y="872640"/>
            <a:ext cx="70246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ка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18760" y="1712880"/>
            <a:ext cx="817884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гент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рап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≥ 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оногра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КС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лектрол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схр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≥ 6.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оноизмењивач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!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мах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кину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остру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тагониз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фека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ће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мбр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мешт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имин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л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рганиз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19120" y="944280"/>
            <a:ext cx="821520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Антагониза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фека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ћел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.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ембран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4000" y="2168640"/>
            <a:ext cx="755964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лц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рект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тагониза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полар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мбра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лу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у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аткоро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;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ла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ши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Q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на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l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нов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фект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82760" y="1026720"/>
            <a:ext cx="81784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Редистрибуција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К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интрацелуларн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простор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19280" y="1932120"/>
            <a:ext cx="790560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чи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у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ста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3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0.5-1.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HC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м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олел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онич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e3d2d"/>
                </a:solidFill>
                <a:latin typeface="Century Gothic"/>
              </a:rPr>
              <a:t>β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гони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TP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0.5-1.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кси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и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0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ме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18760" y="1026720"/>
            <a:ext cx="814212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лиминац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вишк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алијум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из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74360" y="2077560"/>
            <a:ext cx="777708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азид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енлео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тљ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оноизмењивач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стир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лфон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рев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з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ађ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м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з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о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љ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к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-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/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з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-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ли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зерватив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ч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п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обађ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ли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63280" y="907560"/>
            <a:ext cx="702468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19280" y="2168640"/>
            <a:ext cx="7705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уш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оворођен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7.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ивот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утеш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ритабилно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ој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охра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МФ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ко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ћи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ро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лаз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но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кр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ил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етходн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ођ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рмин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3.3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.8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М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звије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ч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уз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исут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исморфиза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п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рганомегалије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змер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мер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К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;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23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7.8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0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5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101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701640" y="1092240"/>
            <a:ext cx="78868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асич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зент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че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ич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дељ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иво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ћ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в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з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н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п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племент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рмо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могу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бољш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линичк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предо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кринин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д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41" name="Content Placeholder 2" descr=""/>
          <p:cNvPicPr/>
          <p:nvPr/>
        </p:nvPicPr>
        <p:blipFill>
          <a:blip r:embed="rId1"/>
          <a:stretch/>
        </p:blipFill>
        <p:spPr>
          <a:xfrm>
            <a:off x="993600" y="2316240"/>
            <a:ext cx="698040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26920" y="123300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Улога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Century Gothic"/>
              </a:rPr>
              <a:t>организм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ж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арач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органск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ганск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честву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анспорт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ов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анљив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пад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дукат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з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честву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цесим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морегул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личин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ерал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инералн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ав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лимолима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(mM / mmol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литар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чешћ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ан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М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пстан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дстављ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њен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лекулск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с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=mg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лекулск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с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indent="-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и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читих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териј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љавај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ен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осмотску активност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тај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тич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процес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истрибуциј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рганиз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 indent="-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смотск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ктивност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вис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број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астворених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честиц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одређеној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оличин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зражава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а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осмотски притиса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иниц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р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рск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ак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iliOsmol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 (mOsm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в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ој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е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иц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ин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ог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итр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нд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ра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9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Century Gothic"/>
              </a:rPr>
              <a:t>Нормална осмоларност плазме = </a:t>
            </a:r>
            <a:r>
              <a:rPr b="1" lang="en-US" sz="3600" spc="-1" strike="noStrike">
                <a:solidFill>
                  <a:srgbClr val="3e3d2d"/>
                </a:solidFill>
                <a:latin typeface="Century Gothic"/>
              </a:rPr>
              <a:t>300mOsm/L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КРЕТАЊ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ЧЕСТИЦ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КРОЗ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МЕМБРАН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1882800" y="3130560"/>
            <a:ext cx="5504040" cy="20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ФУЗ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ЛАКША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ИФУЗИЈ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ЕЗАН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РАНСПОРТ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КТИВН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РАНСПОРТ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РЕГУЛАЦИЈ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МЕТАБОЛИЗМА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1" lang="sl-SI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94c600"/>
                </a:solidFill>
                <a:latin typeface="Century Gothic"/>
              </a:rPr>
              <a:t>ЕЛЕКТРОЛИТ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24120" y="2077920"/>
            <a:ext cx="9106560" cy="435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НТИДИУРЕ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ОРМОН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entury Gothic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ЛДОСТЕР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ТРИЈАЛНИ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НАТРИУРЕТСКИ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ЕПТИД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P</a:t>
            </a:r>
            <a:r>
              <a:rPr b="1" lang="sr-Latn-CS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7" descr=""/>
          <p:cNvPicPr/>
          <p:nvPr/>
        </p:nvPicPr>
        <p:blipFill>
          <a:blip r:embed="rId1"/>
          <a:stretch/>
        </p:blipFill>
        <p:spPr>
          <a:xfrm>
            <a:off x="1116000" y="584280"/>
            <a:ext cx="657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336600" y="2054160"/>
            <a:ext cx="875664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неурохипофиз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артеријск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азоконстри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главн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гулатор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злучивањ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брез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абирних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буб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каналић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реапсорпциј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мањуј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диурезу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в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моларност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урина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ТИМУЛАНС</a:t>
            </a: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овећа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Осм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плазм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смањење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ци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Times New Roman"/>
              </a:rPr>
              <a:t>волу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857520" y="782640"/>
            <a:ext cx="7412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АНТИДИУРЕТСК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ОРМОН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(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DH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3"/>
          <p:cNvSpPr/>
          <p:nvPr/>
        </p:nvSpPr>
        <p:spPr>
          <a:xfrm>
            <a:off x="526680" y="1981080"/>
            <a:ext cx="899712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бјектив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сећа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отреб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луј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циз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ар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хипоталамус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праоптичко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реги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еуро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р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у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СМОРЕЦЕПТО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АДРАЖАЈ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ј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хидрац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Na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злазак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з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ервних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ћел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нтр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же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112320" y="5072040"/>
            <a:ext cx="9057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Ангиотензин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II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=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већан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отреб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пијењем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0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000" spc="-1" strike="noStrike">
                <a:solidFill>
                  <a:srgbClr val="000000"/>
                </a:solidFill>
                <a:latin typeface="Century Gothic"/>
              </a:rPr>
              <a:t> 2-3 x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281520" y="5838840"/>
            <a:ext cx="88063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ИЈЕЊЕ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ГУБ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ДМАХ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АПСОРП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371400" y="781200"/>
            <a:ext cx="2043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ЕЂ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4c6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95 %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минералокортикоидн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ктивности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дбубрега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егулиш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реапсорпциј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исаталним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абирним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аналићим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з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истовремен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крецију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СТИМУЛАНС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за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лучењ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је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пораст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К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у</a:t>
            </a:r>
            <a:r>
              <a:rPr b="0" lang="sl-SI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Century Gothic"/>
              </a:rPr>
              <a:t>ЕЦТ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пораст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К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0,1-0,2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mmol/L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крециј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двостручи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2848320" y="914400"/>
            <a:ext cx="3134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ALDOSTERON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934920" y="1858680"/>
            <a:ext cx="7274160" cy="44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липептидн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ормон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реткомо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рц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ренин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интез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лдостеро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јачав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JGF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екскре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ремешт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течност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траваскуларног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терстицијск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дељак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вазоконстрикциј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зазван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нгиотензином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орадреналин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0000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мозг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мањуј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треб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ољ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инхибир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слобађањ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3348000" y="1052640"/>
            <a:ext cx="2303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1276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592200" y="1349280"/>
            <a:ext cx="7920000" cy="545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БОЛЕСТ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ИТ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астроентерити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нтестинлн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пструкциј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ХСП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волвулу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Century Gothic"/>
              </a:rPr>
              <a:t>      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РЕНАЛН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смотск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урез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КАХ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урет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иабете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нсипидус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ГУБИЦ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КОЖОМ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ПЛУЋИМ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опекотин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зноје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бронхореј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велик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плеуларн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злив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НАКУПЉА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СЕРОЗНИМ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ДУПЉАМА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ТКИВИМА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Century Gothic"/>
              </a:rPr>
              <a:t>ИСКРВАВЉЕЊЕ</a:t>
            </a:r>
            <a:r>
              <a:rPr b="1" lang="sl-SI" sz="23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2494440" y="692280"/>
            <a:ext cx="439776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ХИПОВОЛЕМИЈА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55640" y="10267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94c600"/>
                </a:solidFill>
                <a:latin typeface="Arial"/>
              </a:rPr>
              <a:t>ХИПОВОЛЕМИЈА</a:t>
            </a:r>
            <a:r>
              <a:rPr b="1" lang="sr-Latn-CS" sz="3600" spc="-1" strike="noStrike">
                <a:solidFill>
                  <a:srgbClr val="94c600"/>
                </a:solidFill>
                <a:latin typeface="Arial"/>
              </a:rPr>
              <a:t> ≠ </a:t>
            </a:r>
            <a:r>
              <a:rPr b="1" lang="sr-RS" sz="3600" spc="-1" strike="noStrike">
                <a:solidFill>
                  <a:srgbClr val="94c600"/>
                </a:solidFill>
                <a:latin typeface="Arial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хиповолемиј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сол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ЕЦФ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дехидрациј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ЕЦФ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3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3e3d2d"/>
                </a:solidFill>
                <a:latin typeface="Century Gothic"/>
              </a:rPr>
              <a:t>хипернатриемија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1197000"/>
            <a:ext cx="702468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срц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иповолемиј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93240" y="2151000"/>
            <a:ext cx="730908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енск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уње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рецептор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ткомор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лућних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С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импатикус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лектив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азоконстрикциј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аљ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мањ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инут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барорецептор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аротид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инус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орт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лу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тону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импатикуса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RA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3" marL="1112400" indent="-22608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2268360" y="907920"/>
            <a:ext cx="6229440" cy="55422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584280"/>
            <a:ext cx="3457800" cy="19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Хемодинамски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активације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симпатикуса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95320" y="907920"/>
            <a:ext cx="76564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бубрег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хиповолемију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7360" y="1822320"/>
            <a:ext cx="87631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дрена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гиотенз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ферент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ртерио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лтрацио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ра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JGF/BPP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те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нкот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рент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ртериола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ритубулар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пилар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↑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орп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адрена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гиотенз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оксимал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бул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достер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бирн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налићи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ур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азв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тис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аз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кскре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82400" y="836280"/>
            <a:ext cx="804996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Серумска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хиповолемији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72960" y="1700280"/>
            <a:ext cx="8398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волем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личи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о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дружен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9%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стиз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зулта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оногра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кретор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реј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адржај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тск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реја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ракци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кре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ве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азу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иркулишућ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есорп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181080" y="2252520"/>
            <a:ext cx="8712000" cy="265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Е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2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лазм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- 6%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Међу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- 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рансћелијск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ГИ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екрециј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цереброспиналн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ликвор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леур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ерикардиј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нтраокулар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синовијална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ечнос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  - 1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3%</a:t>
            </a:r>
            <a:r>
              <a:rPr b="0" lang="sl-SI" sz="2400" spc="-1" strike="noStrike">
                <a:solidFill>
                  <a:srgbClr val="000000"/>
                </a:solidFill>
                <a:latin typeface="Century Gothic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2556000" y="4941720"/>
            <a:ext cx="38494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ИЦТ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45%)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752480" y="762120"/>
            <a:ext cx="62042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ОДЕЉЦИ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ТЕЛЕСНЕ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r>
              <a:rPr b="1" lang="sl-SI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94960" y="188640"/>
            <a:ext cx="7240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хиповолемијс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кскрециј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рином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92200" y="1566720"/>
          <a:ext cx="7848360" cy="4910400"/>
        </p:xfrm>
        <a:graphic>
          <a:graphicData uri="http://schemas.openxmlformats.org/drawingml/2006/table">
            <a:tbl>
              <a:tblPr/>
              <a:tblGrid>
                <a:gridCol w="3925800"/>
                <a:gridCol w="39225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иска конц. </a:t>
                      </a: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</a:t>
                      </a: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 ур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&lt;10 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7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на или повећана конц. </a:t>
                      </a:r>
                      <a:r>
                        <a:rPr b="1" lang="en-U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</a:t>
                      </a:r>
                      <a:r>
                        <a:rPr b="1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 урину </a:t>
                      </a:r>
                      <a:r>
                        <a:rPr b="1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&gt;20 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f278"/>
                    </a:solidFill>
                  </a:tcPr>
                </a:tc>
              </a:tr>
              <a:tr h="401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аћ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јаре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азогастрична аспир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истул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ИТ крвар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пекоти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елика оштећења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ложеност топло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Цистична фибр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елике плеуралне ефуз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убици течности у 3. прос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Crush” 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е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уретиц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мотска диу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фицит минералокортико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стопструктивна диур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олигуријска 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A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фропатија са губитком с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икарбонатур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Кетонур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024680" cy="60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хиповол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71280" y="907920"/>
          <a:ext cx="8964720" cy="5889600"/>
        </p:xfrm>
        <a:graphic>
          <a:graphicData uri="http://schemas.openxmlformats.org/drawingml/2006/table">
            <a:tbl>
              <a:tblPr/>
              <a:tblGrid>
                <a:gridCol w="4483080"/>
                <a:gridCol w="4481640"/>
              </a:tblGrid>
              <a:tr h="433440">
                <a:tc>
                  <a:txBody>
                    <a:bodyPr lIns="90000" rIns="900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имптоми </a:t>
                      </a:r>
                      <a:r>
                        <a:rPr b="1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68200"/>
                      </a:solidFill>
                    </a:lnL>
                    <a:lnR w="13680">
                      <a:solidFill>
                        <a:srgbClr val="e682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e68200"/>
                      </a:solidFill>
                    </a:lnB>
                    <a:solidFill>
                      <a:srgbClr val="caf27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Знац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68200"/>
                      </a:solidFill>
                    </a:lnL>
                    <a:lnR w="13680">
                      <a:solidFill>
                        <a:srgbClr val="e682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e68200"/>
                      </a:solidFill>
                    </a:lnB>
                    <a:solidFill>
                      <a:srgbClr val="caf278"/>
                    </a:solidFill>
                  </a:tcPr>
                </a:tc>
              </a:tr>
              <a:tr h="545616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 у трбу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ол у гру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мањен </a:t>
                      </a:r>
                      <a:r>
                        <a:rPr b="1" i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per os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н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мањено излучивање ур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ијаре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Дезоријентац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м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јачан осећај жеђ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ритабил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Мишићна слаб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ртоглавица у усправном положај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Жеља за сољу 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(</a:t>
                      </a: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имарна инсуфицијенција надбубрега</a:t>
                      </a:r>
                      <a:r>
                        <a:rPr b="1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апад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раћ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убитак телесне ма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лабљен тургор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одужено капиларно пуњ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уве слузн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ртостатска хипотен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пале о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пале фонтан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Тахикард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лаб пул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e682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0416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Постављање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400" spc="-1" strike="noStrike">
                <a:solidFill>
                  <a:srgbClr val="000000"/>
                </a:solidFill>
                <a:latin typeface="Arial"/>
              </a:rPr>
              <a:t>хиповолемије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12944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к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с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волем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684360" y="2565360"/>
          <a:ext cx="7775280" cy="3568680"/>
        </p:xfrm>
        <a:graphic>
          <a:graphicData uri="http://schemas.openxmlformats.org/drawingml/2006/table">
            <a:tbl>
              <a:tblPr/>
              <a:tblGrid>
                <a:gridCol w="3311280"/>
                <a:gridCol w="4464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Комплетна крвна сл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ишен хематокрит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у случају крварењ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Биохемија сер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, K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 бикарбонати могу бити снижени или повише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овишени албумини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у нефротском синдрому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Анализа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исока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SG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 осмолал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Електролити у урин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бично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Na &lt;20 mol/L (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осим код губитк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Na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еко бубрег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Фракциона екскреција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&lt;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6360" y="620280"/>
            <a:ext cx="334944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уш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се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рон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ж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олест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ли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JGF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5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/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.73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</a:t>
            </a:r>
            <a:r>
              <a:rPr b="0" lang="sr-Latn-CS" sz="2200" spc="-1" strike="noStrike" baseline="30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гле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8.9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ºC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0/70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0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8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ж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е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у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.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8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2.6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71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K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gb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8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g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e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.010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.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еи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g/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итр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зитивни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40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41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42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1042560" y="765000"/>
            <a:ext cx="72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% </a:t>
            </a:r>
            <a:r>
              <a:rPr b="1" lang="sr-RS" sz="28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=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сл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x 100 .... </a:t>
            </a:r>
            <a:r>
              <a:rPr b="1" lang="sr-Latn-CS" sz="2800" spc="-1" strike="noStrike">
                <a:solidFill>
                  <a:srgbClr val="3e3d2d"/>
                </a:solidFill>
                <a:latin typeface="Century Gothic"/>
              </a:rPr>
              <a:t>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симптомат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ием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горш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бубрежн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функциј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нем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огућ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ТУ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требн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ржав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ц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10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вањ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1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00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77708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независ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жеље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оче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x 0.6 x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 = 60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1000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0.9%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154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-457200">
              <a:lnSpc>
                <a:spcPct val="9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ловин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8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ста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16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641880" y="2276640"/>
            <a:ext cx="8012880" cy="3507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ОЈЧ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К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sl-SI" sz="24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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5%               </a:t>
            </a:r>
            <a:r>
              <a:rPr b="1" lang="sl-SI" sz="24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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РЕДЊ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5-10%           3-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ШКА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                  10-15%          6-9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117360" y="836640"/>
            <a:ext cx="8923320" cy="100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СТИЧКИ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ХИДРАЦИЈ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су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сне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е</a:t>
            </a:r>
            <a:r>
              <a:rPr b="1" lang="sl-SI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sl-SI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263520" y="6021360"/>
            <a:ext cx="854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Пад</a:t>
            </a:r>
            <a:r>
              <a:rPr b="1" lang="en-U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ТА</a:t>
            </a:r>
            <a:r>
              <a:rPr b="1" lang="en-U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је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касни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знак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шока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код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деце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и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захтева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брзу</a:t>
            </a:r>
            <a:r>
              <a:rPr b="1" lang="sr-Latn-CS" sz="2200" spc="-1" strike="noStrike">
                <a:solidFill>
                  <a:srgbClr val="f3311d"/>
                </a:solidFill>
                <a:latin typeface="Times New Roman"/>
              </a:rPr>
              <a:t> </a:t>
            </a:r>
            <a:r>
              <a:rPr b="1" lang="sr-RS" sz="2200" spc="-1" strike="noStrike">
                <a:solidFill>
                  <a:srgbClr val="f3311d"/>
                </a:solidFill>
                <a:latin typeface="Times New Roman"/>
              </a:rPr>
              <a:t>терапиј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1" name=""/>
          <p:cNvGraphicFramePr/>
          <p:nvPr/>
        </p:nvGraphicFramePr>
        <p:xfrm>
          <a:off x="863640" y="944640"/>
          <a:ext cx="7272360" cy="4825800"/>
        </p:xfrm>
        <a:graphic>
          <a:graphicData uri="http://schemas.openxmlformats.org/drawingml/2006/table">
            <a:tbl>
              <a:tblPr/>
              <a:tblGrid>
                <a:gridCol w="1819080"/>
                <a:gridCol w="1819440"/>
                <a:gridCol w="1814400"/>
                <a:gridCol w="1819440"/>
              </a:tblGrid>
              <a:tr h="95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МЕР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Е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6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РГ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sl-SI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ОЈА К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ед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ледо си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ЛУЗОКО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ко 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ко сув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ОНТАНЕ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ако 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ко упал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15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Л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ормал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1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УР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лигуриј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нуриј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836640"/>
            <a:ext cx="7024680" cy="13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Карактеристичан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лабораторијски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налаз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дехидрира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детета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без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претход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бубрежног</a:t>
            </a:r>
            <a:r>
              <a:rPr b="0" lang="sr-Latn-C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entury Gothic"/>
              </a:rPr>
              <a:t>поремећаја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73263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исо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Релативно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е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днос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Мал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нцент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      (&lt; 15 </a:t>
            </a:r>
            <a:r>
              <a:rPr b="0" lang="en-US" sz="28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ематокрит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ерумск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албумин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емоконцент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Лабораторијск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карактеристик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дехидрације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647640" y="2324160"/>
          <a:ext cx="7848720" cy="3317760"/>
        </p:xfrm>
        <a:graphic>
          <a:graphicData uri="http://schemas.openxmlformats.org/drawingml/2006/table">
            <a:tbl>
              <a:tblPr/>
              <a:tblGrid>
                <a:gridCol w="1981440"/>
                <a:gridCol w="1979280"/>
                <a:gridCol w="1974960"/>
                <a:gridCol w="191304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ИЗО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ТО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23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=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&gt;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Cl &lt; H</a:t>
                      </a:r>
                      <a:r>
                        <a:rPr b="1" lang="sr-Latn-CS" sz="22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097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. ПЛАЗМЕ 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sm/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1-2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lt; 2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29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4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(mmol/L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0-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lt; 1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985680"/>
            <a:ext cx="7024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25" name="Picture 4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552456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55480" y="1055160"/>
            <a:ext cx="82519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Измене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потребној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количини</a:t>
            </a:r>
            <a:r>
              <a:rPr b="0" lang="sr-Latn-C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Century Gothic"/>
              </a:rPr>
              <a:t>течности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84360" y="2324160"/>
          <a:ext cx="7848360" cy="3230640"/>
        </p:xfrm>
        <a:graphic>
          <a:graphicData uri="http://schemas.openxmlformats.org/drawingml/2006/table">
            <a:tbl>
              <a:tblPr/>
              <a:tblGrid>
                <a:gridCol w="3924000"/>
                <a:gridCol w="392436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Фактор </a:t>
                      </a:r>
                      <a:r>
                        <a:rPr b="1" lang="sr-Latn-C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треб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озница 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%/º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вентилациј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60 mL/100 kc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Знојење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25 mL/100 kc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тироидизам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аријабилно</a:t>
                      </a:r>
                      <a:r>
                        <a:rPr b="0" lang="sr-Latn-C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: 25-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Гастроинтестинални губици и болест бубрег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атити и анлизирати излучене количине и прилагодити терапиј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10920" y="1026720"/>
            <a:ext cx="79930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Електролитни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састав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телесних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течности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39640" y="2324160"/>
          <a:ext cx="8064720" cy="2332080"/>
        </p:xfrm>
        <a:graphic>
          <a:graphicData uri="http://schemas.openxmlformats.org/drawingml/2006/table">
            <a:tbl>
              <a:tblPr/>
              <a:tblGrid>
                <a:gridCol w="2017800"/>
                <a:gridCol w="2014560"/>
                <a:gridCol w="2014560"/>
                <a:gridCol w="201780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CO</a:t>
                      </a:r>
                      <a:r>
                        <a:rPr b="1" lang="sr-Latn-CS" sz="18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r>
                        <a:rPr b="1" lang="sr-Latn-CS" sz="18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јареја 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9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8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елудачни сок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-8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-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анког црева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-1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-1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11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леостома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-13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-1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18760" y="102672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Процењени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ефицит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електролита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умереној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о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тешкој</a:t>
            </a:r>
            <a:r>
              <a:rPr b="0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82ba12"/>
                </a:solidFill>
                <a:latin typeface="Century Gothic"/>
              </a:rPr>
              <a:t>дехидрациј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0920" y="2946240"/>
          <a:ext cx="8640720" cy="2073600"/>
        </p:xfrm>
        <a:graphic>
          <a:graphicData uri="http://schemas.openxmlformats.org/drawingml/2006/table">
            <a:tbl>
              <a:tblPr/>
              <a:tblGrid>
                <a:gridCol w="1874880"/>
                <a:gridCol w="1579320"/>
                <a:gridCol w="1728720"/>
                <a:gridCol w="1729080"/>
                <a:gridCol w="1728720"/>
              </a:tblGrid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ип дехидрац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</a:t>
                      </a:r>
                      <a:r>
                        <a:rPr b="1" lang="sr-Latn-CS" sz="20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2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O (mL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+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l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i HCO</a:t>
                      </a:r>
                      <a:r>
                        <a:rPr b="1" lang="sr-Latn-CS" sz="2000" spc="-1" strike="noStrike" baseline="-25000">
                          <a:solidFill>
                            <a:srgbClr val="ffffff"/>
                          </a:solidFill>
                          <a:latin typeface="Century Gothic"/>
                        </a:rPr>
                        <a:t>3</a:t>
                      </a:r>
                      <a:r>
                        <a:rPr b="1" lang="sr-Latn-CS" sz="2000" spc="-1" strike="noStrike" baseline="30000">
                          <a:solidFill>
                            <a:srgbClr val="ffffff"/>
                          </a:solidFill>
                          <a:latin typeface="Century Gothic"/>
                        </a:rPr>
                        <a:t>-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(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тон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-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-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тон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-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-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тона </a:t>
                      </a: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0-1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-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-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-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11080" y="836640"/>
            <a:ext cx="7577280" cy="74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entury Gothic"/>
              </a:rPr>
              <a:t>Орална</a:t>
            </a:r>
            <a:r>
              <a:rPr b="0" lang="sr-Latn-C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4000" spc="-1" strike="noStrike">
                <a:solidFill>
                  <a:srgbClr val="000000"/>
                </a:solidFill>
                <a:latin typeface="Century Gothic"/>
              </a:rPr>
              <a:t>рехидрациј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83800" y="1968480"/>
            <a:ext cx="757548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лаг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Газиран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оков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ђу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чај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... </a:t>
            </a:r>
            <a:r>
              <a:rPr b="1" lang="sr-RS" sz="2600" spc="-1" strike="noStrike">
                <a:solidFill>
                  <a:srgbClr val="f3311d"/>
                </a:solidFill>
                <a:latin typeface="Century Gothic"/>
              </a:rPr>
              <a:t>НЕ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РС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садрже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45-9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600" spc="-1" strike="noStrike" baseline="30000">
                <a:solidFill>
                  <a:srgbClr val="3e3d2d"/>
                </a:solidFill>
                <a:latin typeface="Century Gothic"/>
              </a:rPr>
              <a:t>+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20-25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600" spc="-1" strike="noStrike" baseline="30000">
                <a:solidFill>
                  <a:srgbClr val="3e3d2d"/>
                </a:solidFill>
                <a:latin typeface="Century Gothic"/>
              </a:rPr>
              <a:t>+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30-34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mol/L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цитрат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икарбонат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2-2.5%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глукозе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мал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појединачн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зам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(5-15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40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благу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ехидрац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100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6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умерену</a:t>
            </a:r>
            <a:r>
              <a:rPr b="0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дехидрац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Оралн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рехидрациј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је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контраиндикована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f3311d"/>
                </a:solidFill>
                <a:latin typeface="Century Gothic"/>
              </a:rPr>
              <a:t>код</a:t>
            </a:r>
            <a:r>
              <a:rPr b="0" lang="sr-Latn-CS" sz="3200" spc="-1" strike="noStrike">
                <a:solidFill>
                  <a:srgbClr val="f3311d"/>
                </a:solidFill>
                <a:latin typeface="Century Gothic"/>
              </a:rPr>
              <a:t>: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72960" y="2324160"/>
            <a:ext cx="8398080" cy="3913200"/>
          </a:xfrm>
          <a:prstGeom prst="rect">
            <a:avLst/>
          </a:prstGeom>
          <a:solidFill>
            <a:srgbClr val="ff0000">
              <a:alpha val="7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ц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змењен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тање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вест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респираторн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истрес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-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мог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 пиј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мостално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ум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кутн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бдоме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ојчад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губитк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олуме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&gt; 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емодинамск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стабил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ц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ешк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онатрием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&lt; 120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/L Na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ернатрием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&gt; 160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/L Na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539640" y="2406600"/>
            <a:ext cx="8064720" cy="36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зо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...70-8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ер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.15%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емиј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...... 5-10%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611280" y="981000"/>
            <a:ext cx="7456320" cy="88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Учесталост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ипов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38360" y="1027080"/>
            <a:ext cx="78501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ургентн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59040"/>
            <a:ext cx="7796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-2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0 mL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5% glc + 0.9% NaCl 2-3: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5-20 m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 ил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0.7 g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карбонат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-3 mmol/kg TM 8.4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H &lt;7.2, a HCO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15 mmol/L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вати д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H 7.2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тим поступн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жати вентилацију и 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pCO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 бикарбон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TM(kg) x 0.3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1 mmol Na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= 1 mL 8.4% Na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1018800"/>
            <a:ext cx="7548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надокнаде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2560" y="2781000"/>
            <a:ext cx="6777000" cy="30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међ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i 6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40-60 mL/kg T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став телесних течности према јоногра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љ – успоставити диурез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11080" y="1026720"/>
            <a:ext cx="7777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изонатремијске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ехидрациј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94c600"/>
                </a:solidFill>
                <a:latin typeface="Arial"/>
              </a:rPr>
              <a:t>III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фаз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 (</a:t>
            </a:r>
            <a:r>
              <a:rPr b="0" lang="sr-RS" sz="2800" spc="-1" strike="noStrike">
                <a:solidFill>
                  <a:srgbClr val="94c600"/>
                </a:solidFill>
                <a:latin typeface="Arial"/>
              </a:rPr>
              <a:t>опоравка</a:t>
            </a:r>
            <a:r>
              <a:rPr b="0" lang="sr-Latn-CS" sz="2800" spc="-1" strike="noStrike">
                <a:solidFill>
                  <a:srgbClr val="94c600"/>
                </a:solidFill>
                <a:latin typeface="Arial"/>
              </a:rPr>
              <a:t>)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6 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је 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/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 волумена планираног з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24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K – 3 mmol/kg (7.4% KCl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 пре успостављања диуре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 више од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40 mL/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24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65280" y="4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Програм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рехидрације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за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тешку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изонатријумску</a:t>
            </a:r>
            <a:r>
              <a:rPr b="1" lang="sr-Latn-CS" sz="28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82ba12"/>
                </a:solidFill>
                <a:latin typeface="Century Gothic"/>
              </a:rPr>
              <a:t>рехидрациј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665280" y="1676520"/>
          <a:ext cx="7772400" cy="4719600"/>
        </p:xfrm>
        <a:graphic>
          <a:graphicData uri="http://schemas.openxmlformats.org/drawingml/2006/table">
            <a:tbl>
              <a:tblPr/>
              <a:tblGrid>
                <a:gridCol w="2590560"/>
                <a:gridCol w="2590920"/>
                <a:gridCol w="259092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хидр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пијски ци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30-60m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mL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екција вол. васкуларног прос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0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6-8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:1)+KCL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-100 mL/kg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рекција ЕЦ прост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.потре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15-17 </a:t>
                      </a: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 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. потреб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:1)+7,4%KCl+10% Calcih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кући губ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пуна корек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317600" y="2421000"/>
            <a:ext cx="69516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СВАК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ЖИВОТН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ОБА</a:t>
            </a:r>
            <a:r>
              <a:rPr b="1" lang="sr-CS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</a:t>
            </a:r>
            <a:r>
              <a:rPr b="1" lang="sl-SI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/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невн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или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0-15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2234160" y="1255680"/>
            <a:ext cx="45424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ОТРЕБ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1280" y="763560"/>
            <a:ext cx="7456680" cy="78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82ba12"/>
                </a:solidFill>
                <a:latin typeface="Century Gothic"/>
              </a:rPr>
              <a:t>Хипонатремијска</a:t>
            </a:r>
            <a:r>
              <a:rPr b="0" lang="sr-Latn-CS" sz="3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82ba12"/>
                </a:solidFill>
                <a:latin typeface="Century Gothic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18920" y="1773000"/>
            <a:ext cx="788508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Углавно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астроентеритис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електролит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столицом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враћањем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grpSp>
        <p:nvGrpSpPr>
          <p:cNvPr id="518" name="Organization Chart 5"/>
          <p:cNvGrpSpPr/>
          <p:nvPr/>
        </p:nvGrpSpPr>
        <p:grpSpPr>
          <a:xfrm>
            <a:off x="1908000" y="3550320"/>
            <a:ext cx="4994640" cy="2723040"/>
            <a:chOff x="1908000" y="3550320"/>
            <a:chExt cx="4994640" cy="2723040"/>
          </a:xfrm>
        </p:grpSpPr>
        <p:cxnSp>
          <p:nvCxnSpPr>
            <p:cNvPr id="519" name="_s1028"/>
            <p:cNvCxnSpPr>
              <a:stCxn id="520" idx="0"/>
              <a:endCxn id="521" idx="2"/>
            </p:cNvCxnSpPr>
            <p:nvPr/>
          </p:nvCxnSpPr>
          <p:spPr>
            <a:xfrm flipV="1">
              <a:off x="3043080" y="5208840"/>
              <a:ext cx="2880" cy="399960"/>
            </a:xfrm>
            <a:prstGeom prst="bentConnector2">
              <a:avLst/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22" name="_s1029"/>
            <p:cNvCxnSpPr>
              <a:stCxn id="523" idx="0"/>
            </p:cNvCxnSpPr>
            <p:nvPr/>
          </p:nvCxnSpPr>
          <p:spPr>
            <a:xfrm flipH="1" flipV="1" rot="5400000">
              <a:off x="5530680" y="5406120"/>
              <a:ext cx="399960" cy="5400"/>
            </a:xfrm>
            <a:prstGeom prst="bentConnector3">
              <a:avLst>
                <a:gd name="adj1" fmla="val 26306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24" name="_s1030"/>
            <p:cNvCxnSpPr/>
            <p:nvPr/>
          </p:nvCxnSpPr>
          <p:spPr>
            <a:xfrm flipV="1" rot="16200000">
              <a:off x="4984200" y="3699720"/>
              <a:ext cx="399960" cy="1299960"/>
            </a:xfrm>
            <a:prstGeom prst="bentConnector3">
              <a:avLst>
                <a:gd name="adj1" fmla="val 29729"/>
              </a:avLst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25" name="_s1031"/>
            <p:cNvCxnSpPr/>
            <p:nvPr/>
          </p:nvCxnSpPr>
          <p:spPr>
            <a:xfrm flipH="1" flipV="1" rot="5400000">
              <a:off x="3232080" y="3917160"/>
              <a:ext cx="1064520" cy="1524240"/>
            </a:xfrm>
            <a:prstGeom prst="bentConnector3">
              <a:avLst>
                <a:gd name="adj1" fmla="val 74323"/>
              </a:avLst>
            </a:prstGeom>
            <a:ln w="38160">
              <a:solidFill>
                <a:srgbClr val="94c600"/>
              </a:solidFill>
              <a:miter/>
            </a:ln>
          </p:spPr>
        </p:cxnSp>
        <p:sp>
          <p:nvSpPr>
            <p:cNvPr id="526" name="_s1032"/>
            <p:cNvSpPr/>
            <p:nvPr/>
          </p:nvSpPr>
          <p:spPr>
            <a:xfrm>
              <a:off x="3002400" y="3550320"/>
              <a:ext cx="2950200" cy="596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↓</a:t>
              </a:r>
              <a:r>
                <a:rPr b="0" lang="sr-Latn-CS" sz="3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ECT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_s1033"/>
            <p:cNvSpPr/>
            <p:nvPr/>
          </p:nvSpPr>
          <p:spPr>
            <a:xfrm>
              <a:off x="1908000" y="4548240"/>
              <a:ext cx="2268000" cy="6613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↑ </a:t>
              </a: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aldosteron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_s1034"/>
            <p:cNvSpPr/>
            <p:nvPr/>
          </p:nvSpPr>
          <p:spPr>
            <a:xfrm>
              <a:off x="4644000" y="4548240"/>
              <a:ext cx="2258640" cy="661320"/>
            </a:xfrm>
            <a:prstGeom prst="roundRect">
              <a:avLst>
                <a:gd name="adj" fmla="val 16583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↑ </a:t>
              </a:r>
              <a:r>
                <a:rPr b="0" lang="sr-Latn-CS" sz="2900" spc="-1" strike="noStrike">
                  <a:solidFill>
                    <a:srgbClr val="000000"/>
                  </a:solidFill>
                  <a:latin typeface="Century Gothic"/>
                </a:rPr>
                <a:t>ADH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_s1035"/>
            <p:cNvSpPr/>
            <p:nvPr/>
          </p:nvSpPr>
          <p:spPr>
            <a:xfrm>
              <a:off x="4607280" y="5609160"/>
              <a:ext cx="2239560" cy="6642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Poveća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resorpcija vod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_s1036"/>
            <p:cNvSpPr/>
            <p:nvPr/>
          </p:nvSpPr>
          <p:spPr>
            <a:xfrm>
              <a:off x="1908000" y="5609160"/>
              <a:ext cx="2268000" cy="6642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Resorpcija 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Century Gothic"/>
                </a:rPr>
                <a:t>i gubitak 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7360" y="873000"/>
            <a:ext cx="8909280" cy="927360"/>
          </a:xfrm>
          <a:prstGeom prst="rect">
            <a:avLst/>
          </a:prstGeom>
          <a:solidFill>
            <a:srgbClr val="ffffff"/>
          </a:solidFill>
          <a:ln w="34920">
            <a:solidFill>
              <a:srgbClr val="82ba12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Разликовати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од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br>
              <a:rPr sz="2600"/>
            </a:b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псеудохипонатремије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хипертоне</a:t>
            </a:r>
            <a:r>
              <a:rPr b="0" lang="sr-Latn-CS" sz="26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82ba12"/>
                </a:solidFill>
                <a:latin typeface="Century Gothic"/>
              </a:rPr>
              <a:t>хипонатремије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grpSp>
        <p:nvGrpSpPr>
          <p:cNvPr id="529" name="Organization Chart 5"/>
          <p:cNvGrpSpPr/>
          <p:nvPr/>
        </p:nvGrpSpPr>
        <p:grpSpPr>
          <a:xfrm>
            <a:off x="612720" y="2384280"/>
            <a:ext cx="8099280" cy="4249800"/>
            <a:chOff x="612720" y="2384280"/>
            <a:chExt cx="8099280" cy="4249800"/>
          </a:xfrm>
        </p:grpSpPr>
        <p:cxnSp>
          <p:nvCxnSpPr>
            <p:cNvPr id="530" name="_s2052"/>
            <p:cNvCxnSpPr/>
            <p:nvPr/>
          </p:nvCxnSpPr>
          <p:spPr>
            <a:xfrm>
              <a:off x="3563640" y="3871440"/>
              <a:ext cx="1710720" cy="2520"/>
            </a:xfrm>
            <a:prstGeom prst="bentConnector2">
              <a:avLst/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31" name="_s2053"/>
            <p:cNvCxnSpPr>
              <a:stCxn id="532" idx="0"/>
              <a:endCxn id="533" idx="2"/>
            </p:cNvCxnSpPr>
            <p:nvPr/>
          </p:nvCxnSpPr>
          <p:spPr>
            <a:xfrm flipV="1" rot="16200000">
              <a:off x="6521400" y="3722760"/>
              <a:ext cx="484920" cy="10080"/>
            </a:xfrm>
            <a:prstGeom prst="bentConnector3">
              <a:avLst>
                <a:gd name="adj1" fmla="val 23551"/>
              </a:avLst>
            </a:prstGeom>
            <a:ln w="38160">
              <a:solidFill>
                <a:srgbClr val="94c600"/>
              </a:solidFill>
              <a:miter/>
            </a:ln>
          </p:spPr>
        </p:cxnSp>
        <p:cxnSp>
          <p:nvCxnSpPr>
            <p:cNvPr id="534" name="_s2054"/>
            <p:cNvCxnSpPr>
              <a:stCxn id="535" idx="0"/>
              <a:endCxn id="536" idx="2"/>
            </p:cNvCxnSpPr>
            <p:nvPr/>
          </p:nvCxnSpPr>
          <p:spPr>
            <a:xfrm flipH="1" flipV="1" rot="5400000">
              <a:off x="2311920" y="3723120"/>
              <a:ext cx="562680" cy="2160"/>
            </a:xfrm>
            <a:prstGeom prst="bentConnector3">
              <a:avLst>
                <a:gd name="adj1" fmla="val 20294"/>
              </a:avLst>
            </a:prstGeom>
            <a:ln w="38160">
              <a:solidFill>
                <a:srgbClr val="d5e999"/>
              </a:solidFill>
              <a:miter/>
            </a:ln>
          </p:spPr>
        </p:cxnSp>
        <p:sp>
          <p:nvSpPr>
            <p:cNvPr id="533" name="_s2055"/>
            <p:cNvSpPr/>
            <p:nvPr/>
          </p:nvSpPr>
          <p:spPr>
            <a:xfrm>
              <a:off x="5472000" y="2398680"/>
              <a:ext cx="2573280" cy="10875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Hiperton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&gt; 295 mOsm/kg H</a:t>
              </a:r>
              <a:r>
                <a:rPr b="0" lang="sr-Latn-C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_s2056"/>
            <p:cNvSpPr/>
            <p:nvPr/>
          </p:nvSpPr>
          <p:spPr>
            <a:xfrm>
              <a:off x="1260360" y="2384280"/>
              <a:ext cx="2666880" cy="105912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Izoton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280-295 mOsm/kg H</a:t>
              </a:r>
              <a:r>
                <a:rPr b="0" lang="sr-Latn-CS" sz="2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sr-Latn-CS" sz="2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_s2057"/>
            <p:cNvSpPr/>
            <p:nvPr/>
          </p:nvSpPr>
          <p:spPr>
            <a:xfrm>
              <a:off x="612720" y="4005360"/>
              <a:ext cx="3958920" cy="25844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perlipidemi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ubitak Na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Trigliceridi (mg/dL) x 0.0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Hiperproteinemij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Gubitak Na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(proteini u plazmi g/dL – 8g/dL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x 0.02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_s2058"/>
            <p:cNvSpPr/>
            <p:nvPr/>
          </p:nvSpPr>
          <p:spPr>
            <a:xfrm>
              <a:off x="4824360" y="3970440"/>
              <a:ext cx="3887640" cy="26636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avanje glukoze ili manitol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*za svakih 100 mg/dL glc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</a:rPr>
                <a:t>sNa opada za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.6 mmol/d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*za svakih 0.5 mg/kg datog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nitola sNa opada za 4-5 mmol/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24"/>
            <p:cNvSpPr/>
            <p:nvPr/>
          </p:nvSpPr>
          <p:spPr>
            <a:xfrm>
              <a:off x="6768720" y="3470400"/>
              <a:ext cx="1800" cy="534960"/>
            </a:xfrm>
            <a:prstGeom prst="line">
              <a:avLst/>
            </a:prstGeom>
            <a:ln w="50760">
              <a:solidFill>
                <a:srgbClr val="8bc7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22"/>
            <p:cNvSpPr/>
            <p:nvPr/>
          </p:nvSpPr>
          <p:spPr>
            <a:xfrm>
              <a:off x="3557520" y="3646440"/>
              <a:ext cx="1981080" cy="26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20"/>
            <p:cNvSpPr/>
            <p:nvPr/>
          </p:nvSpPr>
          <p:spPr>
            <a:xfrm>
              <a:off x="2592360" y="3424320"/>
              <a:ext cx="1440" cy="581040"/>
            </a:xfrm>
            <a:prstGeom prst="line">
              <a:avLst/>
            </a:prstGeom>
            <a:ln w="50760">
              <a:solidFill>
                <a:srgbClr val="8bc7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Line 21"/>
          <p:cNvSpPr/>
          <p:nvPr/>
        </p:nvSpPr>
        <p:spPr>
          <a:xfrm flipH="1">
            <a:off x="3635280" y="3573360"/>
            <a:ext cx="1332000" cy="0"/>
          </a:xfrm>
          <a:prstGeom prst="line">
            <a:avLst/>
          </a:prstGeom>
          <a:ln cap="rnd" w="3492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2556000" y="1881360"/>
            <a:ext cx="0" cy="360360"/>
          </a:xfrm>
          <a:prstGeom prst="line">
            <a:avLst/>
          </a:prstGeom>
          <a:ln w="44280">
            <a:solidFill>
              <a:srgbClr val="8bc7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25"/>
          <p:cNvSpPr/>
          <p:nvPr/>
        </p:nvSpPr>
        <p:spPr>
          <a:xfrm>
            <a:off x="6804000" y="1881360"/>
            <a:ext cx="0" cy="360360"/>
          </a:xfrm>
          <a:prstGeom prst="line">
            <a:avLst/>
          </a:prstGeom>
          <a:ln w="44280">
            <a:solidFill>
              <a:srgbClr val="8bc7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91640" y="10267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мптом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знац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ипонатремијске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360" y="2323800"/>
            <a:ext cx="77752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чекив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губљ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&gt;10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п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2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раж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Н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фрактер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тиконвулзи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корекциј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осмолар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02468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риступ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42920" y="2323800"/>
            <a:ext cx="7129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Лечење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сновног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поремећаја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Оралн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интравенск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3e3d2d"/>
                </a:solidFill>
                <a:latin typeface="Century Gothic"/>
              </a:rPr>
              <a:t>хипонатремије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280" y="1027080"/>
            <a:ext cx="731196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18920" y="2323800"/>
            <a:ext cx="76690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лаг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дехидрациј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рално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честало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адекват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5-1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5-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in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рехидрацију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могуће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.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в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болусом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20-4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0.9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600" spc="-1" strike="noStrike">
                <a:solidFill>
                  <a:srgbClr val="3e3d2d"/>
                </a:solidFill>
                <a:latin typeface="Century Gothic"/>
              </a:rPr>
              <a:t> 30-60 </a:t>
            </a: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in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1294920"/>
            <a:ext cx="7620120" cy="4496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ТЕРАПИЈА ХИПОНАТРЕМИЈСКЕ ДЕХИДРАЦИЈЕ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 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5%Glc+0,9%NaCl 20 ml/kg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I 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5%Glc+0,9%NaCl 1:1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Na &lt; 120 mmol/l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и симптоми ЦНС</a:t>
            </a: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-a 3%NaCl</a:t>
            </a:r>
            <a:br>
              <a:rPr sz="2400"/>
            </a:b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ФАЗА</a:t>
            </a:r>
            <a:br>
              <a:rPr sz="2400"/>
            </a:br>
            <a:r>
              <a:rPr b="1" lang="sr-RS" sz="2400" spc="-1" strike="noStrike">
                <a:solidFill>
                  <a:srgbClr val="ffffff"/>
                </a:solidFill>
                <a:latin typeface="Century Gothic"/>
              </a:rPr>
              <a:t>идентична као код изонатриемијске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76000" y="620280"/>
            <a:ext cx="377964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8000"/>
                </a:solidFill>
                <a:latin typeface="Century Gothic"/>
              </a:rPr>
              <a:t>Случај</a:t>
            </a:r>
            <a:r>
              <a:rPr b="0" lang="sr-Latn-CS" sz="3200" spc="-1" strike="noStrike">
                <a:solidFill>
                  <a:srgbClr val="008000"/>
                </a:solidFill>
                <a:latin typeface="Century Gothic"/>
              </a:rPr>
              <a:t> ???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8920" y="1557000"/>
            <a:ext cx="78483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енс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сец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-5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38-38.5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ој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нас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аб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ивн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ш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б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до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руг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ран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в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азир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око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слађ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ледени чај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њ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2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т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коли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тарг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пал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ч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лабље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ург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ж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4/43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H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8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6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75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.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.......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860760" y="6175440"/>
            <a:ext cx="74412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Sokovi sadrže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~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550-700mOsm/kg sa &lt; 5mmol/L 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5400720" y="5337000"/>
            <a:ext cx="1079280" cy="324000"/>
          </a:xfrm>
          <a:prstGeom prst="pie">
            <a:avLst/>
          </a:prstGeom>
          <a:solidFill>
            <a:srgbClr val="caf2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4c600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647280" y="1197000"/>
            <a:ext cx="777708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........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спитализова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9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мо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70.7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6.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3.9 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ct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8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.03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теи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аг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536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5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</a:t>
            </a:r>
            <a:r>
              <a:rPr b="0" lang="en-US" sz="2200" spc="-1" strike="noStrike" baseline="-25000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 baseline="-25000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23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губи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 baseline="-25000">
                <a:solidFill>
                  <a:srgbClr val="3e3d2d"/>
                </a:solidFill>
                <a:latin typeface="Century Gothic"/>
              </a:rPr>
              <a:t>2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р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аме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6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30/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89/54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H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08000" y="6149880"/>
            <a:ext cx="9036000" cy="40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FE</a:t>
            </a:r>
            <a:r>
              <a:rPr b="0" lang="sr-Latn-CS" sz="1800" spc="-1" strike="noStrike" baseline="-25000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= (Na (u) x 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)/(Na 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 x 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18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1800" spc="-1" strike="noStrike">
                <a:solidFill>
                  <a:srgbClr val="3e3d2d"/>
                </a:solidFill>
                <a:latin typeface="Century Gothic"/>
              </a:rPr>
              <a:t>)) x 100; Normalno 1-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65280" y="728280"/>
            <a:ext cx="785016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- </a:t>
            </a:r>
            <a:r>
              <a:rPr b="0" lang="en-US" sz="3200" spc="-1" strike="noStrike">
                <a:solidFill>
                  <a:srgbClr val="82ba12"/>
                </a:solidFill>
                <a:latin typeface="Century Gothic"/>
              </a:rPr>
              <a:t>I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 (</a:t>
            </a:r>
            <a:r>
              <a:rPr b="0" lang="sr-RS" sz="3200" spc="-1" strike="noStrike">
                <a:solidFill>
                  <a:srgbClr val="82ba12"/>
                </a:solidFill>
                <a:latin typeface="Century Gothic"/>
              </a:rPr>
              <a:t>акутна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) </a:t>
            </a:r>
            <a:r>
              <a:rPr b="0" lang="sr-RS" sz="3200" spc="-1" strike="noStrike">
                <a:solidFill>
                  <a:srgbClr val="82ba12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82ba12"/>
                </a:solidFill>
                <a:latin typeface="Century Gothic"/>
              </a:rPr>
              <a:t>: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8360" y="166536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у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ча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ће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фуз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нг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та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из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ркулатор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реча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перфу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тал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га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x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30-60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    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6 x 20 = 120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0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60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55480" y="1026720"/>
            <a:ext cx="810576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- </a:t>
            </a:r>
            <a:r>
              <a:rPr b="0" lang="en-US" sz="3000" spc="-1" strike="noStrike">
                <a:solidFill>
                  <a:srgbClr val="82ba12"/>
                </a:solidFill>
                <a:latin typeface="Century Gothic"/>
              </a:rPr>
              <a:t>II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фаза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 (</a:t>
            </a:r>
            <a:r>
              <a:rPr b="0" lang="sr-RS" sz="3000" spc="-1" strike="noStrike">
                <a:solidFill>
                  <a:srgbClr val="82ba12"/>
                </a:solidFill>
                <a:latin typeface="Century Gothic"/>
              </a:rPr>
              <a:t>надокнаде</a:t>
            </a:r>
            <a:r>
              <a:rPr b="0" lang="sr-Latn-CS" sz="3000" spc="-1" strike="noStrike">
                <a:solidFill>
                  <a:srgbClr val="82ba12"/>
                </a:solidFill>
                <a:latin typeface="Century Gothic"/>
              </a:rPr>
              <a:t>):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064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 потребе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 основ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ндардних проц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6.6 kg x 100mL/kg = 660 m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Na: 3 mmol/100mL x 660 mL = 20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K: 2 mmol/100mL x 660 mL = 13 mmol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 основу стандардних проц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 =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 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L) x 0.6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Na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 серуму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= 0.6 x 0.6 x 140 = 50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датни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Na: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 –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р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Na) x 0.6 x TM (kg) = (135-124) x 0.6 x 6.6 = 43.56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и 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50 + 43.56 ≈ 94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K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 течности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L) x 0.4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р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K = 0.6 x 0.4 x 120 ≈ 29 mmo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1091160" y="838080"/>
            <a:ext cx="64490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ДНЕВН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ОТРЕБ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З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ОМ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365760" y="1859040"/>
            <a:ext cx="8499960" cy="41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НОВОРОЂЕНЧ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6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ОДОЈЧ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1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/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ТМ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ПРЕТШКОЛСК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Т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10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+ 5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/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10-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10-20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  1000-15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ШКОЛСКО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ДЕТЕ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15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+ 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&gt;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20-5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kg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                       1500-2100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м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sr-RS" sz="2400" spc="-1" strike="noStrike">
                <a:solidFill>
                  <a:srgbClr val="000000"/>
                </a:solidFill>
                <a:latin typeface="Century Gothic"/>
              </a:rPr>
              <a:t>АДОЛЕСЦЕНТИ</a:t>
            </a:r>
            <a:r>
              <a:rPr b="1" lang="sl-SI" sz="2400" spc="-1" strike="noStrike">
                <a:solidFill>
                  <a:srgbClr val="000000"/>
                </a:solidFill>
                <a:latin typeface="Century Gothic"/>
              </a:rPr>
              <a:t>             2100-3000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76040" y="764640"/>
            <a:ext cx="7024680" cy="63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ЦНС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ипонатремија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86920" y="1592280"/>
            <a:ext cx="8605800" cy="507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гитац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орекс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такс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ксиоз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...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ављ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илик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а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шт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а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мањ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крец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мањен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гажов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ожданих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вапори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вапор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-4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злаза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тск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ктивних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честиц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гул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ћелијск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рехул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нтрацелуларн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езан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натремијо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хтев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брз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диз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сеумск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3%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лачењ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тегоб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овља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-10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нфуз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3%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6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диж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5 </a:t>
            </a:r>
            <a:r>
              <a:rPr b="0" lang="en-US" sz="2100" spc="-1" strike="noStrike">
                <a:solidFill>
                  <a:srgbClr val="3e3d2d"/>
                </a:solidFill>
                <a:latin typeface="Century Gothic"/>
              </a:rPr>
              <a:t>mmol/h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8560" y="115560"/>
            <a:ext cx="84610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ндром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прекомерног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ослобађања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антидиуретског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хормона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 (</a:t>
            </a:r>
            <a:r>
              <a:rPr b="0" lang="sr-RS" sz="34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r>
              <a:rPr b="0" lang="sr-Latn-CS" sz="3400" spc="-1" strike="noStrike">
                <a:solidFill>
                  <a:srgbClr val="94c600"/>
                </a:solidFill>
                <a:latin typeface="Century Gothic"/>
              </a:rPr>
              <a:t>)</a:t>
            </a:r>
            <a:endParaRPr b="0" lang="en-US" sz="3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16000" y="1591920"/>
            <a:ext cx="8712000" cy="47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ригин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пи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arrter</a:t>
            </a:r>
            <a:r>
              <a:rPr b="0" lang="sr-CS" sz="2400" spc="-1" strike="noStrike">
                <a:solidFill>
                  <a:srgbClr val="3e3d2d"/>
                </a:solidFill>
                <a:latin typeface="Century Gothic"/>
              </a:rPr>
              <a:t> &amp;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chwartz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m J Med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967.) -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хипоосмолалност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еобично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већ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серумск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ормалн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тироидеј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адбубрег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појачано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i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400" spc="-1" strike="noStrike">
                <a:solidFill>
                  <a:srgbClr val="3e3d2d"/>
                </a:solidFill>
                <a:latin typeface="Century Gothic"/>
              </a:rPr>
              <a:t>ури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↑↑↑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VP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ро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топич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дукц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гзоге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нормал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лобађ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урохипофиз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4" name=""/>
          <p:cNvGraphicFramePr/>
          <p:nvPr/>
        </p:nvGraphicFramePr>
        <p:xfrm>
          <a:off x="0" y="7920"/>
          <a:ext cx="9144000" cy="6919920"/>
        </p:xfrm>
        <a:graphic>
          <a:graphicData uri="http://schemas.openxmlformats.org/drawingml/2006/table">
            <a:tbl>
              <a:tblPr/>
              <a:tblGrid>
                <a:gridCol w="2287440"/>
                <a:gridCol w="2392560"/>
                <a:gridCol w="2338200"/>
                <a:gridCol w="2125800"/>
              </a:tblGrid>
              <a:tr h="63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Тумори </a:t>
                      </a:r>
                      <a:r>
                        <a:rPr b="1" lang="sr-Latn-C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ремећаји органа грудног кош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ремећаји ЦНС-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7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Леков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ронхоген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екције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TBC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актерије, вируси.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екција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фламац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den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денокарцион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нтилација поз. притиско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еда глав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abinozid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уоденалн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↓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тисак у левој преткомор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A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mitriptil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денокарцином панкреас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неумоторакс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ксија - исхем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rbiturat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рцином уретер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телектаз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психо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arbamazep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odgkin l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стм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уморске масе / пролиферациј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olhic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им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Цистична фиброза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uillain-Barr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é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iuretic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а леукеми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мисуротомија митралне валвул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штећења кичмене мождин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lufenaz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мфосарк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двезивање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D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пструкција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ан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fin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стиоцитни лимфом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игнитет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диопатски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inblastin / vinkristi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47280" y="728280"/>
            <a:ext cx="7419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Дијагностич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критеријум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з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555480" y="2324160"/>
          <a:ext cx="8033040" cy="1981080"/>
        </p:xfrm>
        <a:graphic>
          <a:graphicData uri="http://schemas.openxmlformats.org/drawingml/2006/table">
            <a:tbl>
              <a:tblPr/>
              <a:tblGrid>
                <a:gridCol w="873360"/>
                <a:gridCol w="7159680"/>
              </a:tblGrid>
              <a:tr h="39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тона хипонатриемија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.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&lt; 280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, Na (</a:t>
                      </a:r>
                      <a:r>
                        <a:rPr b="0" lang="sr-R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с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 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&lt; 135</a:t>
                      </a:r>
                      <a:r>
                        <a:rPr b="0" lang="sr-Latn-C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)</a:t>
                      </a:r>
                      <a:r>
                        <a:rPr b="0" lang="en-US" sz="19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алност урина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лалност серум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9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ма обољења тироидеје, надбубрега, срца и бубрег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ма контракције интраваскуларног простор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конц.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 урину 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&gt; 25) – </a:t>
                      </a:r>
                      <a:r>
                        <a:rPr b="0" lang="sr-R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ишена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FE</a:t>
                      </a:r>
                      <a:r>
                        <a:rPr b="0" lang="sr-Latn-CS" sz="19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567" name="Text Box 88"/>
          <p:cNvSpPr/>
          <p:nvPr/>
        </p:nvSpPr>
        <p:spPr>
          <a:xfrm>
            <a:off x="612720" y="468936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Ефективна осмолалност или тоницитет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= 2 x Na (mmol/L) +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(mg/dL)/18 +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уреа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(mg/dL)/2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89"/>
          <p:cNvSpPr/>
          <p:nvPr/>
        </p:nvSpPr>
        <p:spPr>
          <a:xfrm>
            <a:off x="647640" y="580536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90"/>
          <p:cNvSpPr/>
          <p:nvPr/>
        </p:nvSpPr>
        <p:spPr>
          <a:xfrm>
            <a:off x="792000" y="5553000"/>
            <a:ext cx="756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   mmol x 18 = mg/dL         mg/dL x 0.055 = mmol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уреа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 mmol x 6 = mg/dL    </a:t>
            </a:r>
            <a:r>
              <a:rPr b="0" lang="sr-R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entury Gothic"/>
              </a:rPr>
              <a:t>     mg/dL x 0.166 = mmol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ИАДХ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74360" y="2323800"/>
            <a:ext cx="78138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еч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гранич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но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уч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губље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ут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presiratio insensibili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40-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45%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в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диж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-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ксицикл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ме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лудрокортиз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1" lang="sr-Latn-CS" sz="2400" spc="-1" strike="noStrike">
                <a:solidFill>
                  <a:srgbClr val="f3311d"/>
                </a:solidFill>
                <a:latin typeface="Century Gothic"/>
              </a:rPr>
              <a:t>!!!</a:t>
            </a:r>
            <a:r>
              <a:rPr b="1" lang="sr-Latn-C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покал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енз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тагони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испита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5528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18920" y="1916280"/>
            <a:ext cx="794196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ећ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р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0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Osm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хипертоним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3% </a:t>
            </a:r>
            <a:r>
              <a:rPr b="0" lang="en-US" sz="2200" spc="-1" strike="noStrike" u="sng">
                <a:solidFill>
                  <a:srgbClr val="3e3d2d"/>
                </a:solidFill>
                <a:uFillTx/>
                <a:latin typeface="Century Gothic"/>
              </a:rPr>
              <a:t>NaC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kg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x 0.6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6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=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ш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 u="sng">
                <a:solidFill>
                  <a:srgbClr val="3e3d2d"/>
                </a:solidFill>
                <a:uFillTx/>
                <a:latin typeface="Century Gothic"/>
              </a:rPr>
              <a:t>има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0.5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 mmol Na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/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mL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0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000" spc="-1" strike="noStrike" u="sng">
                <a:solidFill>
                  <a:srgbClr val="3e3d2d"/>
                </a:solidFill>
                <a:uFillTx/>
                <a:latin typeface="Century Gothic"/>
              </a:rPr>
              <a:t> 3% </a:t>
            </a:r>
            <a:r>
              <a:rPr b="0" lang="en-US" sz="2000" spc="-1" strike="noStrike" u="sng">
                <a:solidFill>
                  <a:srgbClr val="3e3d2d"/>
                </a:solidFill>
                <a:uFillTx/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н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mL/mol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x 6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=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лтернатив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2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л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/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уросеми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0.5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/kg i.v.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к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.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бод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уму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3456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63640" y="1989000"/>
            <a:ext cx="763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 симпто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2 mL/kg TM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за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0.5-2 mmol/L/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 је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23-125 mmol/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гуће је дати изотони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атски или асимптоматски, свак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!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тити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-3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т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!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 треба повећати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 серуму за више 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10 mmol/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4 h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55480" y="1026720"/>
            <a:ext cx="810576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ернатремијск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дехидрациј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42560" y="2324160"/>
            <a:ext cx="730908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 15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адекват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дат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фекти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штит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уч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ова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ђ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онату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а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еб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етљи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елик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18760" y="691920"/>
            <a:ext cx="814212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Механизми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који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штите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од</a:t>
            </a:r>
            <a:r>
              <a:rPr b="1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1" lang="sr-RS" sz="28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pSp>
        <p:nvGrpSpPr>
          <p:cNvPr id="579" name="Organization Chart 45"/>
          <p:cNvGrpSpPr/>
          <p:nvPr/>
        </p:nvGrpSpPr>
        <p:grpSpPr>
          <a:xfrm>
            <a:off x="647640" y="1484280"/>
            <a:ext cx="7596360" cy="4583160"/>
            <a:chOff x="647640" y="1484280"/>
            <a:chExt cx="7596360" cy="4583160"/>
          </a:xfrm>
        </p:grpSpPr>
        <p:sp>
          <p:nvSpPr>
            <p:cNvPr id="580" name="AutoShape 67"/>
            <p:cNvSpPr/>
            <p:nvPr/>
          </p:nvSpPr>
          <p:spPr>
            <a:xfrm rot="10800000">
              <a:off x="647640" y="2565000"/>
              <a:ext cx="2881440" cy="3421080"/>
            </a:xfrm>
            <a:custGeom>
              <a:avLst/>
              <a:gdLst>
                <a:gd name="textAreaLeft" fmla="*/ 385920 w 2881440"/>
                <a:gd name="textAreaRight" fmla="*/ 2495520 w 2881440"/>
                <a:gd name="textAreaTop" fmla="*/ 598680 h 3421080"/>
                <a:gd name="textAreaBottom" fmla="*/ 2480400 h 34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noFill/>
            <a:ln w="41400">
              <a:solidFill>
                <a:srgbClr val="caf2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1" name="_s3077"/>
            <p:cNvCxnSpPr/>
            <p:nvPr/>
          </p:nvCxnSpPr>
          <p:spPr>
            <a:xfrm flipV="1" rot="16200000">
              <a:off x="5615640" y="5012640"/>
              <a:ext cx="459720" cy="27720"/>
            </a:xfrm>
            <a:prstGeom prst="bentConnector3">
              <a:avLst>
                <a:gd name="adj1" fmla="val -24843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2" name="_s3078"/>
            <p:cNvCxnSpPr>
              <a:stCxn id="583" idx="0"/>
              <a:endCxn id="584" idx="2"/>
            </p:cNvCxnSpPr>
            <p:nvPr/>
          </p:nvCxnSpPr>
          <p:spPr>
            <a:xfrm flipV="1" rot="16200000">
              <a:off x="5606640" y="3813840"/>
              <a:ext cx="500760" cy="8640"/>
            </a:xfrm>
            <a:prstGeom prst="bentConnector3">
              <a:avLst>
                <a:gd name="adj1" fmla="val 22805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5" name="_s3079"/>
            <p:cNvCxnSpPr>
              <a:stCxn id="586" idx="0"/>
              <a:endCxn id="586" idx="0"/>
            </p:cNvCxnSpPr>
            <p:nvPr/>
          </p:nvCxnSpPr>
          <p:spPr>
            <a:xfrm flipH="1" rot="16200000">
              <a:off x="2346120" y="4037400"/>
              <a:ext cx="2520" cy="2160"/>
            </a:xfrm>
            <a:prstGeom prst="bentConnector3">
              <a:avLst>
                <a:gd name="adj1" fmla="val -7200000"/>
              </a:avLst>
            </a:prstGeom>
            <a:ln w="38160">
              <a:solidFill>
                <a:srgbClr val="d5e999"/>
              </a:solidFill>
              <a:miter/>
            </a:ln>
          </p:spPr>
        </p:cxnSp>
        <p:cxnSp>
          <p:nvCxnSpPr>
            <p:cNvPr id="587" name="_s3080"/>
            <p:cNvCxnSpPr>
              <a:stCxn id="584" idx="0"/>
              <a:endCxn id="588" idx="2"/>
            </p:cNvCxnSpPr>
            <p:nvPr/>
          </p:nvCxnSpPr>
          <p:spPr>
            <a:xfrm flipV="1" rot="16200000">
              <a:off x="5585760" y="2545560"/>
              <a:ext cx="516600" cy="18360"/>
            </a:xfrm>
            <a:prstGeom prst="bentConnector3">
              <a:avLst>
                <a:gd name="adj1" fmla="val 22105"/>
              </a:avLst>
            </a:prstGeom>
            <a:ln w="38160">
              <a:solidFill>
                <a:srgbClr val="94c600"/>
              </a:solidFill>
              <a:miter/>
            </a:ln>
          </p:spPr>
        </p:cxnSp>
        <p:sp>
          <p:nvSpPr>
            <p:cNvPr id="588" name="_s3081"/>
            <p:cNvSpPr/>
            <p:nvPr/>
          </p:nvSpPr>
          <p:spPr>
            <a:xfrm>
              <a:off x="3425760" y="1484280"/>
              <a:ext cx="4818240" cy="812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HIPERNATREM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(hiperosmolarnost) ili pa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efektivnog cirkulišuceg volum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_s3082"/>
            <p:cNvSpPr/>
            <p:nvPr/>
          </p:nvSpPr>
          <p:spPr>
            <a:xfrm>
              <a:off x="3780000" y="2813040"/>
              <a:ext cx="4144680" cy="7556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Žeđ i ↑ sekrecija ADH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(osmoreceptori i baroreceptor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_s3083"/>
            <p:cNvSpPr/>
            <p:nvPr/>
          </p:nvSpPr>
          <p:spPr>
            <a:xfrm>
              <a:off x="982800" y="4038480"/>
              <a:ext cx="2725560" cy="866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Povratna spreg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manjuje osećaj žeđi 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ekreciju AD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_s3084"/>
            <p:cNvSpPr/>
            <p:nvPr/>
          </p:nvSpPr>
          <p:spPr>
            <a:xfrm>
              <a:off x="4125960" y="4068720"/>
              <a:ext cx="3470400" cy="8002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↑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unos v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↓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smanjeno izlučivan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preko bubreg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_s3085"/>
            <p:cNvSpPr/>
            <p:nvPr/>
          </p:nvSpPr>
          <p:spPr>
            <a:xfrm>
              <a:off x="3941640" y="5229360"/>
              <a:ext cx="3907080" cy="83808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Redukcija osmolalnosti plaz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i povećanje efektivn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Century Gothic"/>
                </a:rPr>
                <a:t>cirkulišućeg volume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5832360" y="2276640"/>
              <a:ext cx="1800" cy="53640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63"/>
            <p:cNvSpPr/>
            <p:nvPr/>
          </p:nvSpPr>
          <p:spPr>
            <a:xfrm>
              <a:off x="5832360" y="4870440"/>
              <a:ext cx="1800" cy="39528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62"/>
            <p:cNvSpPr/>
            <p:nvPr/>
          </p:nvSpPr>
          <p:spPr>
            <a:xfrm>
              <a:off x="5867280" y="3573360"/>
              <a:ext cx="1800" cy="503280"/>
            </a:xfrm>
            <a:prstGeom prst="line">
              <a:avLst/>
            </a:prstGeom>
            <a:ln w="50760">
              <a:solidFill>
                <a:srgbClr val="94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64"/>
            <p:cNvSpPr/>
            <p:nvPr/>
          </p:nvSpPr>
          <p:spPr>
            <a:xfrm>
              <a:off x="2254320" y="3860640"/>
              <a:ext cx="122040" cy="1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18760" y="1027080"/>
            <a:ext cx="814212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имптоми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55480" y="1895400"/>
            <a:ext cx="810576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ипч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доста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Углавном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неуроло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ритабилн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риска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ач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тар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ђ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мење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нт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атални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учајеви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кранијал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емора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омб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фарк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ежуравањ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ем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ва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енинге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стеж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ен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Неуролошк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секвел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с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јављај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11-15%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одојчади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кој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преживе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ску</a:t>
            </a: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200" spc="-1" strike="noStrike" u="sng">
                <a:solidFill>
                  <a:srgbClr val="3e3d2d"/>
                </a:solidFill>
                <a:uFillTx/>
                <a:latin typeface="Century Gothic"/>
              </a:rPr>
              <a:t>дехидрациј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956360" cy="10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Дневн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потреб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калорија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,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воде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3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000" spc="-1" strike="noStrike">
                <a:solidFill>
                  <a:srgbClr val="94c600"/>
                </a:solidFill>
                <a:latin typeface="Century Gothic"/>
              </a:rPr>
              <a:t>електролита</a:t>
            </a:r>
            <a:endParaRPr b="0" lang="en-US" sz="3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08000" y="1673280"/>
          <a:ext cx="8964720" cy="4314600"/>
        </p:xfrm>
        <a:graphic>
          <a:graphicData uri="http://schemas.openxmlformats.org/drawingml/2006/table">
            <a:tbl>
              <a:tblPr/>
              <a:tblGrid>
                <a:gridCol w="1171440"/>
                <a:gridCol w="1474920"/>
                <a:gridCol w="1415880"/>
                <a:gridCol w="1755720"/>
                <a:gridCol w="1743120"/>
                <a:gridCol w="1403640"/>
              </a:tblGrid>
              <a:tr h="64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TM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Калорије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048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 + 50 ca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 1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0 + 50 m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&gt;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 + 20 ca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 + 20 mL/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за свак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kg 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mmol /100 mL H</a:t>
                      </a:r>
                      <a:r>
                        <a:rPr b="0" lang="sr-Latn-CS" sz="20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7360" y="188640"/>
            <a:ext cx="890928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3e3d2d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узроци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хипонатремијске</a:t>
            </a:r>
            <a:r>
              <a:rPr b="0" lang="sr-Latn-CS" sz="2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6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11000" y="2023920"/>
            <a:ext cx="677700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Uzroci i manifestacije hipernatremij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Bubrežni ili nebubrežni gubitak vod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0" y="944640"/>
          <a:ext cx="9144000" cy="5843520"/>
        </p:xfrm>
        <a:graphic>
          <a:graphicData uri="http://schemas.openxmlformats.org/drawingml/2006/table">
            <a:tbl>
              <a:tblPr/>
              <a:tblGrid>
                <a:gridCol w="1763640"/>
                <a:gridCol w="1836720"/>
                <a:gridCol w="1886040"/>
                <a:gridCol w="1893960"/>
                <a:gridCol w="1763640"/>
              </a:tblGrid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убитак хипотоне те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убитак само воде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[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]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орм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птерећење натријум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2462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бубрег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смотска диурез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нтрастна средств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схрана, диуретиц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бубрежни губит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И губици због дијареј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враћања, дренажа ГИТ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;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еритонеална дијализ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NN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 одојчад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бубрежни губитак вод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еко коже и дисајних путева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–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розниц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спољашња температур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Губитак воде преко бубрега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: Diabetes insipidus, Hypodipsia-Hypernatremia S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HCO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NaCl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тони дијализат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Cushing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’s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y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гестија морске воде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имарни хипералдостерониза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42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ска осмолалност урина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↑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а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↓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ска осмолалност ури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ли хиперосмоларни ури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исоик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 (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↑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</a:t>
                      </a:r>
                      <a:r>
                        <a:rPr b="0" lang="sr-Latn-CS" sz="1700" spc="-1" strike="noStrike" baseline="-25000">
                          <a:solidFill>
                            <a:srgbClr val="000000"/>
                          </a:solidFill>
                          <a:latin typeface="Century Gothic"/>
                        </a:rPr>
                        <a:t>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64916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отони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NaCl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о постизања довољног интраваскуларног волуме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%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глукоза и лечење основног поремећај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ечити основни поремећај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лим.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уросемид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ијализ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11280" y="1026720"/>
            <a:ext cx="745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3311d"/>
                </a:solidFill>
                <a:latin typeface="Century Gothic"/>
              </a:rPr>
              <a:t>Важно</a:t>
            </a:r>
            <a:r>
              <a:rPr b="1" i="1" lang="sr-Latn-CS" sz="4000" spc="-1" strike="noStrike">
                <a:solidFill>
                  <a:srgbClr val="f3311d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19280" y="2323800"/>
            <a:ext cx="7705440" cy="3508200"/>
          </a:xfrm>
          <a:prstGeom prst="rect">
            <a:avLst/>
          </a:prstGeom>
          <a:solidFill>
            <a:srgbClr val="f3311d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ерапиј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ехидраци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ј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једнаки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олумен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т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током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јма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48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ат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уз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често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праћењ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[N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(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2-3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6000"/>
              <a:buFont typeface="Century Gothic"/>
              <a:buChar char="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[N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]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еруму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СМ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падн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0.5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или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за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више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од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 10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mo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sr-Latn-CS" sz="2800" spc="-1" strike="noStrike">
                <a:solidFill>
                  <a:srgbClr val="ffffff"/>
                </a:solidFill>
                <a:latin typeface="Century Gothic"/>
              </a:rPr>
              <a:t>/</a:t>
            </a:r>
            <a:r>
              <a:rPr b="0" lang="sr-RS" sz="2800" spc="-1" strike="noStrike">
                <a:solidFill>
                  <a:srgbClr val="ffffff"/>
                </a:solidFill>
                <a:latin typeface="Century Gothic"/>
              </a:rPr>
              <a:t>дан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01640" y="1026720"/>
            <a:ext cx="795960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емијс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34920" y="2324160"/>
            <a:ext cx="765360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иљев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дентифик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нов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мањ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љ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р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уе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зе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зи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изиолош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ре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лиуриј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16000" y="189000"/>
            <a:ext cx="8748720" cy="64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кстрацелурар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реб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ез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бзир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центраци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нижа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тепен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!!!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рачунав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{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мер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/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жеље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}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уп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елес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 = 0.6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вих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физиолош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чист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ацијен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уволемича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5%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4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ос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стан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зро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ентр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Diabetes insipidus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ал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D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одат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лиминис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вањ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урети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ијализо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штеће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лан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42560" y="1988640"/>
            <a:ext cx="7381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фаз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Акутн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изотон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NaC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надокнад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24</a:t>
            </a:r>
            <a:r>
              <a:rPr b="0" lang="en-US" sz="2200" spc="-1" strike="noStrike">
                <a:solidFill>
                  <a:srgbClr val="3e3d2d"/>
                </a:solidFill>
                <a:latin typeface="Arial"/>
              </a:rPr>
              <a:t>h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ил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виш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уколико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остој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губиц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ој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нису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оригован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током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рв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Фаз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државања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до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кућн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лечењ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Хиперосмоларност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стимулиш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стварање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диогених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осмол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ћелијам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таурин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глутамат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глутамин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уреа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Arial"/>
              </a:rPr>
              <a:t>инозитол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држањ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смотског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еквилибрију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Сувише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брз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пад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Arial"/>
              </a:rPr>
              <a:t>осмолалности</a:t>
            </a:r>
            <a:r>
              <a:rPr b="0" lang="sr-Latn-CS" sz="2200" spc="-1" strike="noStrike">
                <a:solidFill>
                  <a:srgbClr val="3e3d2d"/>
                </a:solidFill>
                <a:latin typeface="Arial"/>
              </a:rPr>
              <a:t> &gt; </a:t>
            </a:r>
            <a:r>
              <a:rPr b="0" i="1" lang="sr-RS" sz="2200" spc="-1" strike="noStrike" u="sng">
                <a:solidFill>
                  <a:srgbClr val="3e3d2d"/>
                </a:solidFill>
                <a:uFillTx/>
                <a:latin typeface="Arial"/>
              </a:rPr>
              <a:t>едем</a:t>
            </a:r>
            <a:r>
              <a:rPr b="0" i="1" lang="sr-Latn-CS" sz="2200" spc="-1" strike="noStrike" u="sng">
                <a:solidFill>
                  <a:srgbClr val="3e3d2d"/>
                </a:solidFill>
                <a:uFillTx/>
                <a:latin typeface="Arial"/>
              </a:rPr>
              <a:t> </a:t>
            </a:r>
            <a:r>
              <a:rPr b="0" i="1" lang="sr-RS" sz="2200" spc="-1" strike="noStrike" u="sng">
                <a:solidFill>
                  <a:srgbClr val="3e3d2d"/>
                </a:solidFill>
                <a:uFillTx/>
                <a:latin typeface="Arial"/>
              </a:rPr>
              <a:t>мозг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7896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Терапијски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план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–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акутна</a:t>
            </a:r>
            <a:r>
              <a:rPr b="0" lang="sr-Latn-CS" sz="36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Arial"/>
              </a:rPr>
              <a:t>фаз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47280" y="1916280"/>
            <a:ext cx="7885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перфуз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тенз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нге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тат 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лаз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84836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6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невн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отреб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76000" y="2023560"/>
            <a:ext cx="72435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и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ав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/дан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lt; 16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2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165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ригова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жљ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а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нев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треб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/kg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3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2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/100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б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92200" y="701280"/>
            <a:ext cx="7996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19280" y="1989000"/>
            <a:ext cx="78134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баз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цид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хте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икарбона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тој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ки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шо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gt;15%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бел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чун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250920" y="4113360"/>
          <a:ext cx="8642160" cy="2619360"/>
        </p:xfrm>
        <a:graphic>
          <a:graphicData uri="http://schemas.openxmlformats.org/drawingml/2006/table">
            <a:tbl>
              <a:tblPr/>
              <a:tblGrid>
                <a:gridCol w="2495520"/>
                <a:gridCol w="2117520"/>
                <a:gridCol w="2008440"/>
                <a:gridCol w="2020680"/>
              </a:tblGrid>
              <a:tr h="46656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Тип дехидр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Вода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(m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 (mmo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K (mmol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94c600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e0bd"/>
                    </a:solidFill>
                  </a:tcPr>
                </a:tc>
              </a:tr>
              <a:tr h="75780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изонатер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13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натре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&lt; 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caf27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натремиј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[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Na</a:t>
                      </a:r>
                      <a:r>
                        <a:rPr b="0" lang="en-U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]</a:t>
                      </a: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 &gt;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94c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94c600"/>
                      </a:solidFill>
                    </a:lnR>
                    <a:lnT w="18720">
                      <a:solidFill>
                        <a:srgbClr val="caf278"/>
                      </a:solidFill>
                    </a:lnT>
                    <a:lnB w="18720">
                      <a:solidFill>
                        <a:srgbClr val="94c600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613" name="Rectangle 32"/>
          <p:cNvSpPr/>
          <p:nvPr/>
        </p:nvSpPr>
        <p:spPr>
          <a:xfrm>
            <a:off x="8450280" y="5950080"/>
            <a:ext cx="506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3311d"/>
                </a:solidFill>
                <a:latin typeface="Wingdings 2"/>
                <a:ea typeface="Wingdings 2"/>
              </a:rPr>
              <a:t>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28200" y="764640"/>
            <a:ext cx="7959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ск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лан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–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фа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е</a:t>
            </a:r>
            <a:br>
              <a:rPr sz="3200"/>
            </a:b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-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фици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-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91640" y="2324160"/>
            <a:ext cx="786924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ктуе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x 10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4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= 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x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оле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б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5%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.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1/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0.2%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30-4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 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1/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отоног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(0.45%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т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+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једначен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ином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91840" y="799920"/>
            <a:ext cx="747540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Случај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??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01280" y="1844640"/>
            <a:ext cx="7923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Женс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ојч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р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6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сец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40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ºC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ф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орњ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сај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уте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ћ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је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раћ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т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б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Ф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иј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ел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ату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их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гле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дражљив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зни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лаг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в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ж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ста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85/58 mmHg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39ºC, R 40/min,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 175 /min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7.5 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дељ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8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.4 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af278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af278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990720" y="2225520"/>
            <a:ext cx="7086600" cy="204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БИЛАН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НО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+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ИЗЛУЧИВАЊЕ</a:t>
            </a:r>
            <a:r>
              <a:rPr b="1" lang="sl-SI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042920" y="1449360"/>
            <a:ext cx="727416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Лаборатор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ру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Na 162 mmol/L, Cl 126 mmol/L, K 4 mmol/L HCO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3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12 m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88.4 u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еа 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4.8 mmol/L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4.7 mmol/L; KKS b.o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SG 1.030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ма кр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ало проте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укозе и кето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30 umol/L, Na 30 mmol/L, FE</a:t>
            </a:r>
            <a:r>
              <a:rPr b="0" lang="sr-Latn-CS" sz="2200" spc="-1" strike="noStrike" baseline="-25000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0.62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роцен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720108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теп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ебрилн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дражљивос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вед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арентер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хидрациј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8.4-7.5= 0.9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10%)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к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бр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поче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хидра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I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=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докнад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47280" y="51264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докнад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76360" y="1196640"/>
            <a:ext cx="802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165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докнада током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48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е потреб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100mL/kg x 8.3kg = 830m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= 1660 m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: 3mmol/100mL x 830 mL = 25mmo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= 50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: 2mmol/100mL x 830 mL = 17mmol x 2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= 34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фицит из табел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8.4-7.5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g= 0.9 x 100 mL = 900 m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Na: 4 mmol x 8.4 kg = 33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K: 2 mmol x 8.4 kg = 17 mmo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уп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2560 mL vode + 83 mmol Na + 51 mmol K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рзина инфуз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50 mL/h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око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48h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5% glc + 0.9% NaCl (4:1) + 20 mmolKCl/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езбеђу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алоријских потреба/дан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– 1.28L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50g glc – 50 x 4 cal = 200 cal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е потребе с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8.4kg x 100cal/kg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ЛЕЧЕЊ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ДОЈЧЕТ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СА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ЕРНАТРИЈУМСКОМ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ЕХИДРАЦИЈОМ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685800" y="1665360"/>
          <a:ext cx="7772400" cy="4717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рехидр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30-60 m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иповолемијски ш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mL/kg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зме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li 5%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бум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4-5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. олигоануриј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10 mL/kg       (6: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48 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. нормална диуре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6:1) + 7,4%KCl + 10% Calcih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тходни губиц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150 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олошке потреб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 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47640" y="872640"/>
            <a:ext cx="795672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оремећаји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омеостазе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д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важниј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ун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внотеж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злта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но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бубреж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убит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у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ав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тјо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75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ДИСТРИБУЦ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ОРГАНИЗМУ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685800" y="2409840"/>
          <a:ext cx="7772400" cy="34066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M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% </a:t>
                      </a: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купног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кстраћелиј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з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ерстицију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езивно тки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ансцелулар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,5                 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                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траћелиј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купн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07640" y="944640"/>
            <a:ext cx="702468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Унос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схран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ултурних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злик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чи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ле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адрж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к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MF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7-12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2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a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z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формул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гула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иво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псорп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И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в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псорпци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-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транспортер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76000" y="799920"/>
            <a:ext cx="702468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Излучивање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натријума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39640" y="1566720"/>
            <a:ext cx="8028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злучу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утем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толиц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ној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ајважни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ној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ормалн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5-40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Концентрациј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завис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равнотеж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рганизму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тимулиш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ећај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жеђ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крециј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;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л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дно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луч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смлалност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тич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излучивањ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бубрега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75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Ефективни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одређује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количин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3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300" spc="-1" strike="noStrike">
                <a:solidFill>
                  <a:srgbClr val="3e3d2d"/>
                </a:solidFill>
                <a:latin typeface="Century Gothic"/>
              </a:rPr>
              <a:t>урину</a:t>
            </a:r>
            <a:endParaRPr b="0" lang="en-US" sz="23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55480" y="654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оремећај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регулације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N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а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у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плазм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634" name=""/>
          <p:cNvGraphicFramePr/>
          <p:nvPr/>
        </p:nvGraphicFramePr>
        <p:xfrm>
          <a:off x="774720" y="1603440"/>
          <a:ext cx="7772400" cy="5056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онатремија испод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5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Хипернатремија изнад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0mM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смањеним циркулаторним вол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Јатрог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натремијска дехидр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кутно тровањ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a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оалдостерониз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нсипидни дијабет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урохормон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повећаним циркул. во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фрог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нгестивна срчана инсуфициј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ндром хиподипс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хипернатр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убрежна инсуфициј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сенцијал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уроге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хипернатр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Са нормалним циркулаторним волуме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ефротски синдро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ез едем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2560" y="87300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42920" y="1881000"/>
            <a:ext cx="71661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ц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рочи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гастроентерити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трахоспиталн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атроген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мер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начаја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рбидите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следиц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е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с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изи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штећењ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сле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ре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1055520" y="2278080"/>
            <a:ext cx="6455160" cy="39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90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РАН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10%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ЕТАБОЛИЧК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Century Gothic"/>
              </a:rPr>
              <a:t>100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Kcal</a:t>
            </a:r>
            <a:r>
              <a:rPr b="1" lang="sl-SI" sz="3200" spc="-1" strike="noStrike" u="sng">
                <a:solidFill>
                  <a:srgbClr val="000000"/>
                </a:solidFill>
                <a:uFillTx/>
                <a:latin typeface="Century Gothic"/>
              </a:rPr>
              <a:t> =  12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mL H2O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1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Х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=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,6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П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.   =  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,4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         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9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Kcal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М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  =   1,1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L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435840" y="981000"/>
            <a:ext cx="25869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УНОС</a:t>
            </a:r>
            <a:r>
              <a:rPr b="1" lang="sl-SI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sr-RS" sz="3200" spc="-1" strike="noStrike">
                <a:solidFill>
                  <a:srgbClr val="000000"/>
                </a:solidFill>
                <a:latin typeface="Century Gothic"/>
              </a:rPr>
              <a:t>В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7680" y="907560"/>
            <a:ext cx="80168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Патофизиолог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4800" y="1916280"/>
            <a:ext cx="77472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р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нов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еханиз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н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ишак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47640" y="1027080"/>
            <a:ext cx="781200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Kliničke manifestacije hipernatremije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47640" y="2205000"/>
            <a:ext cx="781200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Znaci dehidracije uz uglavnom očuvan intravaskularni volumen – blagi simptomi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I bez dehidracije, simptomi CNS-a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Iritabilnost, nemir, slabost, letargija, vriskav plač i hiperpnea (NN i odojlčad), žeđanje, mučnina; febrilnost, hiperglikemija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 u="sng">
                <a:solidFill>
                  <a:srgbClr val="3e3d2d"/>
                </a:solidFill>
                <a:uFillTx/>
                <a:latin typeface="Century Gothic"/>
              </a:rPr>
              <a:t>Moždano krvarenje je najteža posledica, tromboz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Mijelinoza ponsa je klasična posledica previše brze korekcij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47280" y="765000"/>
            <a:ext cx="7024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55480" y="1699920"/>
            <a:ext cx="814248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лин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лик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ист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зи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зређ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илан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ист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gt; 100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Osm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/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kg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ређива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D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еђање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змопресинс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њ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лазмин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+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натр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потреб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жеђањем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змопресинск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т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рин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мбинова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ал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прем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lt;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нцентрован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убит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прем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адкват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ли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довољ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нцентрова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0920" y="739440"/>
            <a:ext cx="702468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ер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121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5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/h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па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едем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устав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то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+ 3%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Чест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ћењ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ајпрекоригова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В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лум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ефицит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 3-4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ва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 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е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45 – </a:t>
            </a:r>
            <a:r>
              <a:rPr b="0" i="1" lang="sr-RS" sz="2000" spc="-1" strike="noStrike">
                <a:solidFill>
                  <a:srgbClr val="3e3d2d"/>
                </a:solidFill>
                <a:latin typeface="Century Gothic"/>
              </a:rPr>
              <a:t>клиничка</a:t>
            </a:r>
            <a:r>
              <a:rPr b="0" i="1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i="1" lang="sr-RS" sz="2000" spc="-1" strike="noStrike">
                <a:solidFill>
                  <a:srgbClr val="3e3d2d"/>
                </a:solidFill>
                <a:latin typeface="Century Gothic"/>
              </a:rPr>
              <a:t>валидност</a:t>
            </a:r>
            <a:r>
              <a:rPr b="0" i="1" lang="sr-Latn-CS" sz="2000" spc="-1" strike="noStrike">
                <a:solidFill>
                  <a:srgbClr val="3e3d2d"/>
                </a:solidFill>
                <a:latin typeface="Century Gothic"/>
              </a:rPr>
              <a:t>???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/4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2%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1/2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Ф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0.45%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a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,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оличи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чнос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20-50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ве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невних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треб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ото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6:1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лц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: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ратећ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гликем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→ 2.5%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глук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хиперкалцеми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колик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ави</a:t>
            </a:r>
            <a:r>
              <a:rPr b="0" lang="sr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→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lcihep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47280" y="1027080"/>
            <a:ext cx="702468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47280" y="1988640"/>
            <a:ext cx="788508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Чест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ремећај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омеостаз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тријум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&lt; 135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лес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куп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лес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дређуј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[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]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у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ож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ст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туација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д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Н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ТВ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ниже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ормал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л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ишен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703520"/>
          <a:ext cx="8605800" cy="4856040"/>
        </p:xfrm>
        <a:graphic>
          <a:graphicData uri="http://schemas.openxmlformats.org/drawingml/2006/table">
            <a:tbl>
              <a:tblPr/>
              <a:tblGrid>
                <a:gridCol w="2152440"/>
                <a:gridCol w="6453360"/>
              </a:tblGrid>
              <a:tr h="22669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eudohiponatremija / hiperosmolar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erglikemija, Manitol, GIT poremećaji, </a:t>
                      </a: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ekotine i znojenje, Gubici u treći prostor,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talni deficit aldostreona, Pseudohipoaldosteronizam tip I, Opstrukcija i/ili infekcija urotrakta, Tiazidni ili diuretici Henleove petlje, Osmotska diureza,Postopstruktivna diureza, Poliurična faza ATN, Juvenilna nefronoftiza, AR policistična bolest bubrega, Tubulointersticijski nefritis, Opstruktivna uropatija, Proksimalna RTA, Hiperkalemi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8953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o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bubrežni gubici, Bubrežni gubici, Jatrogeno, Časovi plivanja, Zlostavljanje, Psihogena polidipsija, Razblažena AM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89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u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IADH, Desmopresin acetat, Deficit glukokortikoida, Hipotiroidizam, Trovanje vo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0047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ervolemijska hiponat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ongestivna srčana slabost, Ciroza, Nefrotski sind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ubrežna insuficijencija, Kapilarno popuštanje u sepsi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oalbumiemija u bolestima GI trak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0560" y="799920"/>
            <a:ext cx="8605800" cy="601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4c600"/>
            </a:solidFill>
            <a:miter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Етиологија</a:t>
            </a:r>
            <a:r>
              <a:rPr b="0" lang="sr-Latn-CS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6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47280" y="836640"/>
            <a:ext cx="7977240" cy="6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Клиничк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манифестације</a:t>
            </a:r>
            <a:r>
              <a:rPr b="0" lang="sr-Latn-C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28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4996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смолалнос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Ц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елазак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остор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ћелиј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озг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ра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нтракранијалног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рити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ерниј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тонзил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пне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руг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еуролошк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норекс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учнин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овраћањ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летарг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нфуз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гит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лавобољ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напад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кома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грчев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мишић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лабост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к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е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разв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поро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остај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ЦНС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натремијск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&gt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55280" y="1026720"/>
            <a:ext cx="702468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19280" y="1881360"/>
            <a:ext cx="77040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Анамнез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ијаре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лиур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овред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лав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...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Јонограм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глкемиј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реа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реатинин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липидограм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524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тврди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смолалност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лазм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клиничк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манифестациј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настај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због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хипоосмолалности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премештањ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ИЦ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100" spc="-1" strike="noStrike">
                <a:solidFill>
                  <a:srgbClr val="3e3d2d"/>
                </a:solidFill>
                <a:latin typeface="Century Gothic"/>
              </a:rPr>
              <a:t>одељак</a:t>
            </a:r>
            <a:r>
              <a:rPr b="0" lang="sr-Latn-CS" sz="21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100" spc="-1" strike="noStrike">
              <a:solidFill>
                <a:srgbClr val="3e3d2d"/>
              </a:solidFill>
              <a:latin typeface="Century Gothic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957240" y="4122720"/>
          <a:ext cx="7367760" cy="2214720"/>
        </p:xfrm>
        <a:graphic>
          <a:graphicData uri="http://schemas.openxmlformats.org/drawingml/2006/table">
            <a:tbl>
              <a:tblPr/>
              <a:tblGrid>
                <a:gridCol w="3686040"/>
                <a:gridCol w="36817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ормална осмолално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сеудохипонатремиј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: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гликем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осмолалн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“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Права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”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онатрем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Хиперосмолалнос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9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Неефикасни осмоли повећавају осмолалност </a:t>
                      </a:r>
                      <a:r>
                        <a:rPr b="0" lang="sr-Latn-C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- </a:t>
                      </a:r>
                      <a:r>
                        <a:rPr b="0" lang="sr-R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уре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18920" y="1027080"/>
            <a:ext cx="702468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Дијагноза</a:t>
            </a:r>
            <a:r>
              <a:rPr b="0" lang="sr-Latn-CS" sz="3200" spc="-1" strike="noStrike">
                <a:solidFill>
                  <a:srgbClr val="94c6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Arial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4360" y="1881000"/>
            <a:ext cx="7812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Евалуа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луме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о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знац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Не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lt;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зро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К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;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 &gt; 2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!?!;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метаболич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алкалоз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→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одредити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Cl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(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)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–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сцитес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ућ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дем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плеуралн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излив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хипертенз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...); 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одредити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)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бично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је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&lt; 10 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mol/L,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бубрежној инсу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05040" indent="-22608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3e3d2d"/>
                </a:solidFill>
                <a:latin typeface="Century Gothic"/>
              </a:rPr>
              <a:t>Повишен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→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придруже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акутн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тубулска</a:t>
            </a:r>
            <a:r>
              <a:rPr b="0" lang="sr-Latn-C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 </a:t>
            </a:r>
            <a:r>
              <a:rPr b="0" lang="sr-RS" sz="2000" spc="-1" strike="noStrike">
                <a:solidFill>
                  <a:srgbClr val="3e3d2d"/>
                </a:solidFill>
                <a:latin typeface="Century Gothic"/>
                <a:ea typeface="Arial"/>
              </a:rPr>
              <a:t>некроза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3e3d2d"/>
                </a:solidFill>
                <a:latin typeface="Century Gothic"/>
              </a:rPr>
              <a:t>Еуволемија</a:t>
            </a:r>
            <a:r>
              <a:rPr b="0" lang="sr-Latn-C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76000" y="1027080"/>
            <a:ext cx="702468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Терапија</a:t>
            </a:r>
            <a:r>
              <a:rPr b="0" lang="sr-Latn-CS" sz="32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sr-RS" sz="3200" spc="-1" strike="noStrike">
                <a:solidFill>
                  <a:srgbClr val="94c600"/>
                </a:solidFill>
                <a:latin typeface="Century Gothic"/>
              </a:rPr>
              <a:t>хипонатремије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9280" y="1808280"/>
            <a:ext cx="79930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шк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имптом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→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ат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ерто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аствор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брз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ал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већањ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4-6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L/kg 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3%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NaCl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највиш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) 130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mol/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осталим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лучајевим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пор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ре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серумског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централн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мијелиноз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понс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!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повећават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(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с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)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за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више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д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10-12-15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mol/L/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дан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осим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у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акутно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насталој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ипонатремији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 (&lt;24 </a:t>
            </a:r>
            <a:r>
              <a:rPr b="1" lang="sr-RS" sz="2400" spc="-1" strike="noStrike">
                <a:solidFill>
                  <a:srgbClr val="3e3d2d"/>
                </a:solidFill>
                <a:latin typeface="Century Gothic"/>
              </a:rPr>
              <a:t>х</a:t>
            </a:r>
            <a:r>
              <a:rPr b="1" lang="sr-Latn-CS" sz="2400" spc="-1" strike="noStrike">
                <a:solidFill>
                  <a:srgbClr val="3e3d2d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ао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код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хипонатремијск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ехидрациј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ерволемијска</a:t>
            </a: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sr-RS" sz="2400" spc="-1" strike="noStrike" u="sng">
                <a:solidFill>
                  <a:srgbClr val="3e3d2d"/>
                </a:solidFill>
                <a:uFillTx/>
                <a:latin typeface="Century Gothic"/>
              </a:rPr>
              <a:t>хипонатрем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: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рестрикциј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вод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уретиц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албумини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терапија срчан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инсуфицијенције</a:t>
            </a: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, </a:t>
            </a:r>
            <a:r>
              <a:rPr b="0" lang="sr-RS" sz="2400" spc="-1" strike="noStrike">
                <a:solidFill>
                  <a:srgbClr val="3e3d2d"/>
                </a:solidFill>
                <a:latin typeface="Century Gothic"/>
              </a:rPr>
              <a:t>дијализа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5:48:05Z</dcterms:created>
  <dc:creator>No Name</dc:creator>
  <dc:description/>
  <dc:language>en-US</dc:language>
  <cp:lastModifiedBy>User</cp:lastModifiedBy>
  <dcterms:modified xsi:type="dcterms:W3CDTF">2017-09-05T15:01:09Z</dcterms:modified>
  <cp:revision>109</cp:revision>
  <dc:subject/>
  <dc:title>PowerPoint Presentation</dc:title>
</cp:coreProperties>
</file>